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BF0-51E2-43B5-ABCD-9BE3966F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A3F-2302-4400-AF7A-4E80E2B2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C4762A-63D4-457D-B58C-258D855A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CAA725-AF35-427D-A3B7-07F7797A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2AB121-BDB7-4436-87DC-A6F78C8D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03FAC7-544D-4EDD-809B-02EB6744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D8E94A-51DC-4DD4-9D7C-525DF2D1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293753-6AD8-4D1E-9B23-DE7F5A83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E5BC97-84D4-4799-9F2D-DA573F3A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277B5C-55CC-49F9-A8F2-5C61E788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99D713-5E55-4EF4-9062-931F9E6F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A2B-78FA-4569-BDA2-77982A58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165-7547-420F-9F4F-1CB4C9A9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B18D3-0973-4FB7-8B92-8E8A65EB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EA07E-AB1C-445C-9DAC-C85F0AB8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3F5C6-A436-4C80-B51F-7A462DAD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ACE2B-4616-4097-B69D-81E477B6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DA36A-BC09-48D7-B69A-9B648F58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4043E-3CA5-4523-B21F-AEABA6C2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D66D8-FEFC-4A77-BCD5-AA21C68E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336-5385-46FE-9D5D-36E08914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C19E3-37B8-48A0-B9D6-27759D55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C9B33-36EA-4031-802D-E098E93F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4EDBA-6698-4042-99B2-73584903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80247-AFC7-437C-BFE0-B530EF63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79494-1502-4F94-BD44-964BF0BF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15710-6CBB-4C2B-A71C-6375C245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66E63-6915-4F04-BD97-B85CE7B6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66FCE-B920-4AF4-A7D3-397E0E5B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DE36A-297C-49D6-97D1-170344AD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1A3E8-1D90-411A-9E9E-A0E372B7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D63-4512-4444-B277-9624A95D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E5220-82FF-460A-8B50-3117D8C6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DE029-BAB6-4924-9149-FD088E84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A698E-D2FC-4A6C-AD95-22223A7C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20138-6ABE-4B02-89CA-E15C6EDE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3496F-B6D0-4FCC-8B77-2ABA4EF0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4B1A0-A68F-4ADC-ABD6-2416117B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E442-57D6-4422-A95A-ADBEBDE1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2B82B-7C35-45BC-8C5A-7EF2DB53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1E6FD7-F5F6-472F-BD0D-010625FA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3DE9F3-CD24-4909-B119-EDB27328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B68-458C-40DE-99E6-E86BD209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C0738-3D58-464F-8E94-59BC4ADF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B66AD5-6522-4C9E-9E3A-B30588AC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A759F8-2AD0-44A0-9B17-8E8E8C4E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92B02-DA5E-4F7B-B64E-A2712029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6EAA7B-AD79-4F1E-BE86-B3C83C92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6CEE04-EE70-4F26-80E9-7448367D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FCD66-F8C9-444C-B99E-8CB7DCC0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6507F-0780-4CE4-B153-0D7C4EAC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3CC16-57EE-43F8-81D8-98DDBEFF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08C84-C47F-41FC-8DC4-22A02A58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07D-E459-423D-BA97-21765FEC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E0527-7FB6-470B-833C-84B350F5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6365D-2AF8-48E2-91F3-B70F1EF4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B73E1-0038-4308-8477-A07F38E9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39D2A-6CD4-46B4-B5D0-9BE30870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C642E-AF4D-4685-B1DA-4846003B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CFAA0-BD55-477F-8374-99A18BF2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DBCC4-1962-4D66-B575-03B583E1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BE1D7-2DDE-4D78-81D5-41FC1526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61339-5A37-4251-9F65-7DC0EF00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5779B-16FE-45FD-AC1E-D89FC6E2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AAF-4C38-4174-812F-005F64CF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C14DE-A961-4DD7-A8B7-99273753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9B466-A81B-40D7-8898-8D0DD34F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0476C-E7CC-437C-8D89-5F43C952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D2E21-B99C-4F5C-8C4C-0841690F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194F5-10B2-4D46-B93D-AA8C2281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982D3-C052-4F29-A3EE-05E46E16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34A61-6A2A-4C4D-A18D-04C7A870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45A73-0FE2-4898-B4EA-7C9A9B12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48F19-7D4D-4D70-90A2-407EBE29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87347-CA70-4A71-9173-C4F80734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D95-C6CF-4DDA-BD97-3D669C7D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23235-0541-4734-B74E-080E3358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52846-7428-43E0-88CF-CFAF67EC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C8AB7-FAE5-4D11-8ED4-6DE607C9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8AA92-AF6F-4D9F-BFF4-131BB4B5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8494A-ADC3-47B0-AC43-CD1F0D0E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6573C-7699-400C-B024-C82E7AC9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0F38B-F284-4010-87EF-D37738C8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E6565-70C0-4EF7-A813-37D498C9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9F19C-C83B-4943-9AC0-564E90FA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C7643-C063-4719-9565-7D6475D8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C5D-6B9D-4C2A-97D1-791E928D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47289-EFA8-4E76-B47A-A3C409A8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18732-F635-4D59-8F26-B87F3EE1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23F96-C974-4BC9-A992-87C1B823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46268-C708-4B96-A6AC-FA834FFE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7C4AA-7175-4909-A197-B855072C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33E715-0FB0-44DE-B972-DB7399D3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DE03F2-8F1C-4441-91C8-A7CF5982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2FD74F-8F97-48C9-B656-6BE0D3E5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149083-729E-4CC5-A145-437508EE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989EC5-4980-46AB-A131-CD51EE3B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D6E-615E-4652-9425-5E4D7197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02545C-A10A-464C-8D97-84811A80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32CD06-60E4-4CAE-BF7D-A9205A90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7FC779-4EB0-471D-B248-1CF76D1C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47C6FC-6765-4FAD-BAC3-11133F87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38A5E4-6E23-417B-A3F5-A2A897D0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EF1931-163B-4281-AE84-A844E64D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645578-5BD2-4402-9C45-71DA76EF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3930DF-A0D7-4EDA-8125-5A2ECAD0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CE3696-4E74-4B0C-86B5-A566E752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1EBBA8-FC1F-40CA-AFEB-E9408060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D0DA-EB14-4343-B5E1-1DBBE2911A7B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dondear rectángulo de esquina diagonal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7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4B6D-2571-4DDD-A1DD-ACD7D46B606F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B7F2-CC55-4162-95B2-260D51D99805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DEDF-0BED-47A9-9C94-05E784DAB612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5DEE-6E8C-48A2-B532-EB65CEA50726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7 Rectángulo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8 Rectángulo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271F-5D18-4FB4-88C9-7DDABF14537E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8C4D-A4F2-4803-9DD6-B1E1113E320A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7 Rectángulo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BB69-3E4F-44F3-8C50-96B27500673B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9A52-BA0D-4D7D-AFC1-287946528728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mailto:donricardo2006@hotmail.com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1 Título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381880" cy="22190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85880" y="350028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0f2d8"/>
                </a:solidFill>
                <a:latin typeface="Rockwell"/>
              </a:rPr>
              <a:t>Dr. Luis Ricardo Villalobos Zamora</a:t>
            </a:r>
            <a:br>
              <a:rPr sz="3200"/>
            </a:br>
            <a:r>
              <a:rPr b="0" lang="es-ES" sz="3200" spc="-1" strike="noStrike" u="sng">
                <a:solidFill>
                  <a:srgbClr val="db5353"/>
                </a:solidFill>
                <a:uFillTx/>
                <a:latin typeface="Rockwell"/>
                <a:hlinkClick r:id="rId2"/>
              </a:rPr>
              <a:t>donricardo2006@hotmail.com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Tel (+506 )8837 5773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907920" y="506520"/>
            <a:ext cx="8444160" cy="9255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Aportar conocimiento para  el diseño de la programación ,  la gestión  y evaluación del diseño curricular  para responder a los requerimientos de una carrera determinada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pic>
        <p:nvPicPr>
          <p:cNvPr id="428" name="Picture 2" descr="C:\Users\Luis\Documents\CURRICULO HONDURAS\imagen 3.jpg"/>
          <p:cNvPicPr/>
          <p:nvPr/>
        </p:nvPicPr>
        <p:blipFill>
          <a:blip r:embed="rId1"/>
          <a:stretch/>
        </p:blipFill>
        <p:spPr>
          <a:xfrm>
            <a:off x="428760" y="428760"/>
            <a:ext cx="85723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86800" cy="1165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3 Rectángulo"/>
          <p:cNvSpPr/>
          <p:nvPr/>
        </p:nvSpPr>
        <p:spPr>
          <a:xfrm>
            <a:off x="5286240" y="2143080"/>
            <a:ext cx="2857680" cy="9288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1.USANDO  SIEMPRE LA AUTOCRÍ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6 Rectángulo redondeado"/>
          <p:cNvSpPr/>
          <p:nvPr/>
        </p:nvSpPr>
        <p:spPr>
          <a:xfrm>
            <a:off x="5286240" y="3643200"/>
            <a:ext cx="2786040" cy="100008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2.COEVALUANDO EL TRABAJO REALIZADO POR EL  EQUI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7 Rectángulo redondeado"/>
          <p:cNvSpPr/>
          <p:nvPr/>
        </p:nvSpPr>
        <p:spPr>
          <a:xfrm>
            <a:off x="5214960" y="521496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3.OBTENIENDO  UNA  PERSPECTIVA HOLISTICA DEL HECHO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8 Sol"/>
          <p:cNvSpPr/>
          <p:nvPr/>
        </p:nvSpPr>
        <p:spPr>
          <a:xfrm>
            <a:off x="214200" y="2357280"/>
            <a:ext cx="4143600" cy="3357720"/>
          </a:xfrm>
          <a:prstGeom prst="sun">
            <a:avLst>
              <a:gd name="adj" fmla="val 25000"/>
            </a:avLst>
          </a:prstGeom>
          <a:solidFill>
            <a:srgbClr val="a8cdd7"/>
          </a:solidFill>
          <a:ln w="38160">
            <a:solidFill>
              <a:srgbClr val="7a96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F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CONOCER UN HECHO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5" name="11 Conector recto de flecha"/>
          <p:cNvCxnSpPr>
            <a:endCxn id="431" idx="1"/>
          </p:cNvCxnSpPr>
          <p:nvPr/>
        </p:nvCxnSpPr>
        <p:spPr>
          <a:xfrm flipV="1">
            <a:off x="3929040" y="2606400"/>
            <a:ext cx="1357920" cy="286560"/>
          </a:xfrm>
          <a:prstGeom prst="straightConnector1">
            <a:avLst/>
          </a:prstGeom>
          <a:ln w="76320">
            <a:solidFill>
              <a:srgbClr val="b0ccb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36" name="14 Conector recto de flecha"/>
          <p:cNvCxnSpPr>
            <a:stCxn id="434" idx="3"/>
          </p:cNvCxnSpPr>
          <p:nvPr/>
        </p:nvCxnSpPr>
        <p:spPr>
          <a:xfrm flipV="1">
            <a:off x="4357440" y="3999960"/>
            <a:ext cx="929160" cy="37080"/>
          </a:xfrm>
          <a:prstGeom prst="straightConnector1">
            <a:avLst/>
          </a:prstGeom>
          <a:ln w="76320">
            <a:solidFill>
              <a:srgbClr val="9fb99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37" name="17 Conector recto de flecha"/>
          <p:cNvCxnSpPr/>
          <p:nvPr/>
        </p:nvCxnSpPr>
        <p:spPr>
          <a:xfrm>
            <a:off x="3857400" y="5285880"/>
            <a:ext cx="1215000" cy="358200"/>
          </a:xfrm>
          <a:prstGeom prst="straightConnector1">
            <a:avLst/>
          </a:prstGeom>
          <a:ln w="76320">
            <a:solidFill>
              <a:srgbClr val="9fb99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748720" cy="11588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928800" y="13572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Conjunto de investigaciones proporcionan  el conocimiento para un diseño curricular determinado sobre  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1. La justificación  de la carrera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1.1 ¿En qué consiste la carrera?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1.2 ¿Para qué sirve en nuestra sociedad ?    (Referentes universales y referentes nacionales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Las tendencias actuales de la disciplina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3.Otros diseños similares extranjeros y nacionales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4. Las demandas sociales  (contexto mundial y nacional )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5. Aspectos  conceptuales de la disciplin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pic>
        <p:nvPicPr>
          <p:cNvPr id="441" name="Picture 2" descr="C:\Users\Luis\Documents\CURRICULO HONDURAS\imagen 4.jpg"/>
          <p:cNvPicPr/>
          <p:nvPr/>
        </p:nvPicPr>
        <p:blipFill>
          <a:blip r:embed="rId1"/>
          <a:stretch/>
        </p:blipFill>
        <p:spPr>
          <a:xfrm>
            <a:off x="500040" y="571680"/>
            <a:ext cx="83581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1 Título" descr=""/>
          <p:cNvPicPr/>
          <p:nvPr/>
        </p:nvPicPr>
        <p:blipFill>
          <a:blip r:embed="rId1"/>
          <a:stretch/>
        </p:blipFill>
        <p:spPr>
          <a:xfrm>
            <a:off x="907920" y="208080"/>
            <a:ext cx="8143920" cy="12301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914400" y="1784520"/>
            <a:ext cx="777240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1.Historia de la Universidad y de la carrera 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Rockwell"/>
              </a:rPr>
              <a:t>2.2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Postulados de la Universidad 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2.1 Misión de la Universida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2.2 Visión de la Universida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3.3 Valores de la Universida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3 Postulados de la carrera (congruentes con los de la Universidad)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3.1 Misión de la Carrer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Rockwell"/>
              </a:rPr>
              <a:t>2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.3.2 Visión de la Carrer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3.3 Valores de la Carrer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4 Historia de la carrera (antecedentes de la misma, cuando se inició, modificaciones, etc.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Rockwell"/>
              </a:rPr>
              <a:t>2.5 Proyectos universitarios complementario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¿</a:t>
            </a:r>
            <a:r>
              <a:rPr b="1" lang="es-ES" sz="3600" spc="-1" strike="noStrike">
                <a:solidFill>
                  <a:srgbClr val="cbe1e7"/>
                </a:solidFill>
                <a:latin typeface="Rockwell"/>
              </a:rPr>
              <a:t>CON CÚAL PROCEDIMIENTO METODOLÓGICO HAGO EL DIAGNÓSTICO</a:t>
            </a:r>
            <a:r>
              <a:rPr b="1" lang="es-ES" sz="36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401320" cy="12495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Rockwell"/>
              </a:rPr>
              <a:t>PARA HACER EL DIAGNÓSTICO: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¿CUANTIFICO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¿CUALIFICO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O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¿HAGO UNA CONJUNCIÓN DE  LOS DOS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ENFOQU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METODOLÓGIC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SOCIAL  CUANTITATIVO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Uso del método científico (ciencias exactas y naturale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1 Título" descr=""/>
          <p:cNvPicPr/>
          <p:nvPr/>
        </p:nvPicPr>
        <p:blipFill>
          <a:blip r:embed="rId1"/>
          <a:stretch/>
        </p:blipFill>
        <p:spPr>
          <a:xfrm>
            <a:off x="493560" y="365040"/>
            <a:ext cx="8448840" cy="10429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ff"/>
                </a:solidFill>
                <a:latin typeface="Rockwell"/>
                <a:ea typeface="Arial"/>
              </a:rPr>
              <a:t>1.¿Quiero conocer un hecho social manipulándolo?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EXPERIMENTAL</a:t>
            </a:r>
            <a:r>
              <a:rPr b="1" lang="es-CR" sz="30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ff"/>
                </a:solidFill>
                <a:latin typeface="Rockwell"/>
                <a:ea typeface="Arial"/>
              </a:rPr>
              <a:t>2. ¿Quiero conocer un hecho social mediante la asociación de varios hechos sociales?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CORRELACIONAL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ff"/>
                </a:solidFill>
                <a:latin typeface="Rockwell"/>
                <a:ea typeface="Arial"/>
              </a:rPr>
              <a:t>3. ¿Quiero conocer un hecho social describiendo sus características?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c000"/>
                </a:solidFill>
                <a:latin typeface="Rockwell"/>
                <a:ea typeface="Arial"/>
              </a:rPr>
              <a:t> </a:t>
            </a:r>
            <a:r>
              <a:rPr b="1" lang="es-CR" sz="30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DESCRIPTIVO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1 Elipse"/>
          <p:cNvSpPr/>
          <p:nvPr/>
        </p:nvSpPr>
        <p:spPr>
          <a:xfrm>
            <a:off x="1500120" y="2000160"/>
            <a:ext cx="2143080" cy="107172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Rockwell"/>
              </a:rPr>
              <a:t>1.DIAGNÓST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2 Elipse"/>
          <p:cNvSpPr/>
          <p:nvPr/>
        </p:nvSpPr>
        <p:spPr>
          <a:xfrm>
            <a:off x="6215040" y="3643200"/>
            <a:ext cx="1785960" cy="107172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Rockwell"/>
              </a:rPr>
              <a:t>3.GEST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5 Marco"/>
          <p:cNvSpPr/>
          <p:nvPr/>
        </p:nvSpPr>
        <p:spPr>
          <a:xfrm>
            <a:off x="714240" y="428760"/>
            <a:ext cx="8072640" cy="5929200"/>
          </a:xfrm>
          <a:prstGeom prst="pi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6 CuadroTexto"/>
          <p:cNvSpPr/>
          <p:nvPr/>
        </p:nvSpPr>
        <p:spPr>
          <a:xfrm>
            <a:off x="2357280" y="6429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rbel"/>
              </a:rPr>
              <a:t>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Corbe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13 Flecha arriba y abajo"/>
          <p:cNvSpPr/>
          <p:nvPr/>
        </p:nvSpPr>
        <p:spPr>
          <a:xfrm>
            <a:off x="2428920" y="1214280"/>
            <a:ext cx="357120" cy="714600"/>
          </a:xfrm>
          <a:prstGeom prst="upDownArrow">
            <a:avLst>
              <a:gd name="adj1" fmla="val 50000"/>
              <a:gd name="adj2" fmla="val 50025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14 Flecha arriba y abajo"/>
          <p:cNvSpPr/>
          <p:nvPr/>
        </p:nvSpPr>
        <p:spPr>
          <a:xfrm flipH="1">
            <a:off x="7215120" y="1214280"/>
            <a:ext cx="311040" cy="2357640"/>
          </a:xfrm>
          <a:prstGeom prst="upDownArrow">
            <a:avLst>
              <a:gd name="adj1" fmla="val 50000"/>
              <a:gd name="adj2" fmla="val 50006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15 Flecha arriba y abajo"/>
          <p:cNvSpPr/>
          <p:nvPr/>
        </p:nvSpPr>
        <p:spPr>
          <a:xfrm>
            <a:off x="2286000" y="3143160"/>
            <a:ext cx="500040" cy="2428920"/>
          </a:xfrm>
          <a:prstGeom prst="upDownArrow">
            <a:avLst>
              <a:gd name="adj1" fmla="val 50000"/>
              <a:gd name="adj2" fmla="val 50014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16 Flecha arriba y abajo"/>
          <p:cNvSpPr/>
          <p:nvPr/>
        </p:nvSpPr>
        <p:spPr>
          <a:xfrm>
            <a:off x="6929280" y="4786200"/>
            <a:ext cx="428760" cy="785880"/>
          </a:xfrm>
          <a:prstGeom prst="upDownArrow">
            <a:avLst>
              <a:gd name="adj1" fmla="val 50000"/>
              <a:gd name="adj2" fmla="val 49989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17 CuadroTexto"/>
          <p:cNvSpPr/>
          <p:nvPr/>
        </p:nvSpPr>
        <p:spPr>
          <a:xfrm>
            <a:off x="2428920" y="57862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rbe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10 Elipse"/>
          <p:cNvSpPr/>
          <p:nvPr/>
        </p:nvSpPr>
        <p:spPr>
          <a:xfrm>
            <a:off x="3714840" y="2857680"/>
            <a:ext cx="2428920" cy="121428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Rockwell"/>
              </a:rPr>
              <a:t>2.PROGRAMACIÓN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11 CuadroTexto"/>
          <p:cNvSpPr/>
          <p:nvPr/>
        </p:nvSpPr>
        <p:spPr>
          <a:xfrm>
            <a:off x="8286840" y="1571760"/>
            <a:ext cx="35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E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12 CuadroTexto"/>
          <p:cNvSpPr/>
          <p:nvPr/>
        </p:nvSpPr>
        <p:spPr>
          <a:xfrm>
            <a:off x="785880" y="1643040"/>
            <a:ext cx="50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17 Flecha arriba y abajo"/>
          <p:cNvSpPr/>
          <p:nvPr/>
        </p:nvSpPr>
        <p:spPr>
          <a:xfrm>
            <a:off x="4786200" y="1357200"/>
            <a:ext cx="500040" cy="1500480"/>
          </a:xfrm>
          <a:prstGeom prst="upDownArrow">
            <a:avLst>
              <a:gd name="adj1" fmla="val 50000"/>
              <a:gd name="adj2" fmla="val 50012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18 Flecha arriba y abajo"/>
          <p:cNvSpPr/>
          <p:nvPr/>
        </p:nvSpPr>
        <p:spPr>
          <a:xfrm>
            <a:off x="4643280" y="4214880"/>
            <a:ext cx="642960" cy="1357200"/>
          </a:xfrm>
          <a:prstGeom prst="upDownArrow">
            <a:avLst>
              <a:gd name="adj1" fmla="val 50000"/>
              <a:gd name="adj2" fmla="val 49996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20 Rayo"/>
          <p:cNvSpPr/>
          <p:nvPr/>
        </p:nvSpPr>
        <p:spPr>
          <a:xfrm>
            <a:off x="3143160" y="2571840"/>
            <a:ext cx="928800" cy="500040"/>
          </a:xfrm>
          <a:prstGeom prst="lightningBolt">
            <a:avLst/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21 Rayo"/>
          <p:cNvSpPr/>
          <p:nvPr/>
        </p:nvSpPr>
        <p:spPr>
          <a:xfrm>
            <a:off x="5429160" y="3571920"/>
            <a:ext cx="928800" cy="357120"/>
          </a:xfrm>
          <a:prstGeom prst="lightningBolt">
            <a:avLst/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1 Título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517240" cy="1182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3 Elipse"/>
          <p:cNvSpPr/>
          <p:nvPr/>
        </p:nvSpPr>
        <p:spPr>
          <a:xfrm>
            <a:off x="285840" y="2000160"/>
            <a:ext cx="2857320" cy="164304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DIRE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5 Elipse"/>
          <p:cNvSpPr/>
          <p:nvPr/>
        </p:nvSpPr>
        <p:spPr>
          <a:xfrm>
            <a:off x="214200" y="4214880"/>
            <a:ext cx="2857680" cy="164304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INDIREC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8 Rectángulo"/>
          <p:cNvSpPr/>
          <p:nvPr/>
        </p:nvSpPr>
        <p:spPr>
          <a:xfrm>
            <a:off x="4429080" y="4643280"/>
            <a:ext cx="2571840" cy="5716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ON DOCU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9 Rectángulo"/>
          <p:cNvSpPr/>
          <p:nvPr/>
        </p:nvSpPr>
        <p:spPr>
          <a:xfrm>
            <a:off x="4500720" y="5643720"/>
            <a:ext cx="2357280" cy="6429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ENCUES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10 Rectángulo"/>
          <p:cNvSpPr/>
          <p:nvPr/>
        </p:nvSpPr>
        <p:spPr>
          <a:xfrm>
            <a:off x="4572000" y="3643200"/>
            <a:ext cx="2428920" cy="5716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ON SISTEMA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11 Rectángulo"/>
          <p:cNvSpPr/>
          <p:nvPr/>
        </p:nvSpPr>
        <p:spPr>
          <a:xfrm>
            <a:off x="4500720" y="2071800"/>
            <a:ext cx="2357280" cy="8571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ON EXPERI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0" name="13 Conector recto de flecha"/>
          <p:cNvCxnSpPr>
            <a:stCxn id="454" idx="6"/>
          </p:cNvCxnSpPr>
          <p:nvPr/>
        </p:nvCxnSpPr>
        <p:spPr>
          <a:xfrm flipV="1">
            <a:off x="3142800" y="2571480"/>
            <a:ext cx="1358280" cy="249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1" name="15 Conector recto de flecha"/>
          <p:cNvCxnSpPr/>
          <p:nvPr/>
        </p:nvCxnSpPr>
        <p:spPr>
          <a:xfrm>
            <a:off x="3071520" y="3143160"/>
            <a:ext cx="1500840" cy="5724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2" name="17 Conector recto de flecha"/>
          <p:cNvCxnSpPr/>
          <p:nvPr/>
        </p:nvCxnSpPr>
        <p:spPr>
          <a:xfrm flipV="1">
            <a:off x="2999880" y="4714200"/>
            <a:ext cx="1358280" cy="1436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3" name="21 Conector recto de flecha"/>
          <p:cNvCxnSpPr>
            <a:stCxn id="455" idx="5"/>
          </p:cNvCxnSpPr>
          <p:nvPr/>
        </p:nvCxnSpPr>
        <p:spPr>
          <a:xfrm>
            <a:off x="2652840" y="5616360"/>
            <a:ext cx="1776960" cy="384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4" name="14 Rectángulo"/>
          <p:cNvSpPr/>
          <p:nvPr/>
        </p:nvSpPr>
        <p:spPr>
          <a:xfrm>
            <a:off x="7358040" y="2643120"/>
            <a:ext cx="1785960" cy="242892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Rockwell"/>
              </a:rPr>
              <a:t>INSTRUMENTO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Rockwell"/>
              </a:rPr>
              <a:t>Cuestiona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Rockwell"/>
              </a:rPr>
              <a:t>Te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Rockwell"/>
              </a:rPr>
              <a:t>pruebas objetiv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Rockwell"/>
              </a:rPr>
              <a:t>guía 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18 Conector recto"/>
          <p:cNvSpPr/>
          <p:nvPr/>
        </p:nvSpPr>
        <p:spPr>
          <a:xfrm>
            <a:off x="6929280" y="2286000"/>
            <a:ext cx="7858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20 Conector recto"/>
          <p:cNvSpPr/>
          <p:nvPr/>
        </p:nvSpPr>
        <p:spPr>
          <a:xfrm>
            <a:off x="6929280" y="6000840"/>
            <a:ext cx="1214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7" name="23 Conector recto de flecha"/>
          <p:cNvCxnSpPr/>
          <p:nvPr/>
        </p:nvCxnSpPr>
        <p:spPr>
          <a:xfrm flipH="1">
            <a:off x="7714440" y="2286000"/>
            <a:ext cx="2520" cy="357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25 Conector recto de flecha"/>
          <p:cNvCxnSpPr/>
          <p:nvPr/>
        </p:nvCxnSpPr>
        <p:spPr>
          <a:xfrm flipV="1">
            <a:off x="8071200" y="5073120"/>
            <a:ext cx="2520" cy="929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27 Conector recto de flecha"/>
          <p:cNvCxnSpPr>
            <a:stCxn id="458" idx="3"/>
          </p:cNvCxnSpPr>
          <p:nvPr/>
        </p:nvCxnSpPr>
        <p:spPr>
          <a:xfrm>
            <a:off x="7000560" y="3928680"/>
            <a:ext cx="5007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29 Conector recto de flecha"/>
          <p:cNvCxnSpPr/>
          <p:nvPr/>
        </p:nvCxnSpPr>
        <p:spPr>
          <a:xfrm>
            <a:off x="7000560" y="4857840"/>
            <a:ext cx="42948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ENFOQU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METODOLÓGIC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SOCI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 </a:t>
            </a: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CUALITATIV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600" spc="-1" strike="noStrike">
                <a:solidFill>
                  <a:srgbClr val="ffffff"/>
                </a:solidFill>
                <a:latin typeface="Verdana"/>
                <a:ea typeface="Verdana"/>
              </a:rPr>
              <a:t>uso de otros métodos igual de científicos: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600" spc="-1" strike="noStrike">
                <a:solidFill>
                  <a:srgbClr val="ffffff"/>
                </a:solidFill>
                <a:latin typeface="Verdana"/>
                <a:ea typeface="Verdana"/>
              </a:rPr>
              <a:t>etnográfico, fenomenológico, hermenéutico dialéctico, , investigación acción, entre otros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45520" cy="11527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1.¿Quiero conocer el modo de vida  de  un grupo humano?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ETNOGRÁFICO</a:t>
            </a: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2. ¿Quiero conocer las vivencias de las personas sobre un hecho social?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FENOMENOLÓGICO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3. ¿Quiero interpretar los significados y las acciones de las personas sobre un hecho social?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c000"/>
                </a:solidFill>
                <a:latin typeface="Rockwell"/>
                <a:ea typeface="Arial"/>
              </a:rPr>
              <a:t> </a:t>
            </a:r>
            <a:r>
              <a:rPr b="1" lang="es-CR" sz="25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HERMENÉUTICO DIALÉCTICO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4.Quiero transformar el hecho social?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INVESTIGACIÓN ACCION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3 Elipse"/>
          <p:cNvSpPr/>
          <p:nvPr/>
        </p:nvSpPr>
        <p:spPr>
          <a:xfrm>
            <a:off x="2786040" y="1500120"/>
            <a:ext cx="3143160" cy="178596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PARTICIP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4 Elipse"/>
          <p:cNvSpPr/>
          <p:nvPr/>
        </p:nvSpPr>
        <p:spPr>
          <a:xfrm>
            <a:off x="5643720" y="2928960"/>
            <a:ext cx="3286080" cy="221472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ENTREVIS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NO ESTRUCTUR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5 Elipse"/>
          <p:cNvSpPr/>
          <p:nvPr/>
        </p:nvSpPr>
        <p:spPr>
          <a:xfrm>
            <a:off x="214200" y="3429000"/>
            <a:ext cx="3143520" cy="164304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ÓN DOCU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6 Elipse"/>
          <p:cNvSpPr/>
          <p:nvPr/>
        </p:nvSpPr>
        <p:spPr>
          <a:xfrm>
            <a:off x="3214800" y="5072040"/>
            <a:ext cx="2857320" cy="157176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GRUPO DE DISCUSIÓN O F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7 Flecha cuádruple"/>
          <p:cNvSpPr/>
          <p:nvPr/>
        </p:nvSpPr>
        <p:spPr>
          <a:xfrm>
            <a:off x="2857680" y="2786040"/>
            <a:ext cx="3071520" cy="2643120"/>
          </a:xfrm>
          <a:prstGeom prst="pie">
            <a:avLst/>
          </a:prstGeom>
          <a:solidFill>
            <a:srgbClr val="a8cdd7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INSTRUMENT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GUÍ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600" spc="-1" strike="noStrike">
                <a:solidFill>
                  <a:srgbClr val="ffc000"/>
                </a:solidFill>
                <a:latin typeface="Rockwell"/>
                <a:ea typeface="Verdana"/>
              </a:rPr>
              <a:t>ENFOQUE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600" spc="-1" strike="noStrike">
                <a:solidFill>
                  <a:srgbClr val="ffc000"/>
                </a:solidFill>
                <a:latin typeface="Rockwell"/>
                <a:ea typeface="Verdana"/>
              </a:rPr>
              <a:t>METODOLÓGIC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600" spc="-1" strike="noStrike">
                <a:solidFill>
                  <a:srgbClr val="ffc000"/>
                </a:solidFill>
                <a:latin typeface="Rockwell"/>
                <a:ea typeface="Verdana"/>
              </a:rPr>
              <a:t>SOCIA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Rockwell"/>
              </a:rPr>
              <a:t>                                       </a:t>
            </a:r>
            <a:r>
              <a:rPr b="1" lang="es-ES" sz="3600" spc="-1" strike="noStrike">
                <a:solidFill>
                  <a:srgbClr val="ffc000"/>
                </a:solidFill>
                <a:latin typeface="Rockwell"/>
              </a:rPr>
              <a:t>MIXT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Rockwell"/>
              </a:rPr>
              <a:t>USO DE DOS MÉTODOS :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Rockwell"/>
              </a:rPr>
              <a:t>UNO CUALITATIVO Y OTRO    CUANTITATIV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45520" cy="1152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914400" y="157176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ffffff"/>
                </a:solidFill>
                <a:latin typeface="Rockwell"/>
                <a:ea typeface="Arial"/>
              </a:rPr>
              <a:t>1.¿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Quiero conocer  “ las dos caras de la moneda”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   </a:t>
            </a: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USO EL  DISEÑO  INTEGRAL COMPLEMENTARIO (DICO)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2. ¿Quiero conocer  UN HECHO SOCIAL  INTEGRANDO SUS CUALIDADES CUALITATIVAS Y CUANTITATIVAS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    </a:t>
            </a: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USO EL DISEÑO  INTEGRAL TRIANGULADO (DITRI)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3. ¿Quiero conocer un hecho social  transformando datos cualitativos en cuantitativos o viceversa 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    </a:t>
            </a: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USO EL DISEÑO  INTEGRAL TRASFORMADO  (DITRA)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357120" y="1143000"/>
            <a:ext cx="8786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 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MÉTODO A + MÉTODO B      RESULTADOS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DISEÑO INTEGRAL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COMPLEMENTARIO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1" lang="es-ES" sz="1700" spc="-1" strike="noStrike">
                <a:solidFill>
                  <a:srgbClr val="ffc000"/>
                </a:solidFill>
                <a:latin typeface="Rockwell"/>
              </a:rPr>
              <a:t>(DICO) 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     +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                          </a:t>
            </a: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ESTRATEGIA  DE COMBINACIÓN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Rockwell"/>
              </a:rPr>
              <a:t>                  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DISEÑO INTEGRAL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TRIANGULADO     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c000"/>
                </a:solidFill>
                <a:latin typeface="Rockwell"/>
              </a:rPr>
              <a:t>(DITRI )                           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</a:t>
            </a: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ESTRATEGIA DE  TRIANGULACIÓN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DISEÑO INTEGRAL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+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TRANSFORMADO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c000"/>
                </a:solidFill>
                <a:latin typeface="Rockwell"/>
              </a:rPr>
              <a:t>(DITRA)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c000"/>
                </a:solidFill>
                <a:latin typeface="Rockwell"/>
              </a:rPr>
              <a:t>                                                           </a:t>
            </a: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ESTRATEGIA  DE TRANSFORMACIÓN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3 Elipse"/>
          <p:cNvSpPr/>
          <p:nvPr/>
        </p:nvSpPr>
        <p:spPr>
          <a:xfrm>
            <a:off x="3643200" y="5000760"/>
            <a:ext cx="1000080" cy="928440"/>
          </a:xfrm>
          <a:prstGeom prst="ellipse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4 Elipse"/>
          <p:cNvSpPr/>
          <p:nvPr/>
        </p:nvSpPr>
        <p:spPr>
          <a:xfrm>
            <a:off x="7286760" y="3071880"/>
            <a:ext cx="1214280" cy="11430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5 Elipse"/>
          <p:cNvSpPr/>
          <p:nvPr/>
        </p:nvSpPr>
        <p:spPr>
          <a:xfrm>
            <a:off x="3714840" y="3143160"/>
            <a:ext cx="928440" cy="928800"/>
          </a:xfrm>
          <a:prstGeom prst="ellipse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6 Elipse"/>
          <p:cNvSpPr/>
          <p:nvPr/>
        </p:nvSpPr>
        <p:spPr>
          <a:xfrm>
            <a:off x="3714840" y="1643040"/>
            <a:ext cx="1071360" cy="928800"/>
          </a:xfrm>
          <a:prstGeom prst="ellipse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10 Estrella de 5 puntas"/>
          <p:cNvSpPr/>
          <p:nvPr/>
        </p:nvSpPr>
        <p:spPr>
          <a:xfrm>
            <a:off x="5572080" y="1643040"/>
            <a:ext cx="1000080" cy="928800"/>
          </a:xfrm>
          <a:prstGeom prst="pie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12 Elipse"/>
          <p:cNvSpPr/>
          <p:nvPr/>
        </p:nvSpPr>
        <p:spPr>
          <a:xfrm>
            <a:off x="6858000" y="1714680"/>
            <a:ext cx="928800" cy="857160"/>
          </a:xfrm>
          <a:prstGeom prst="ellipse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13 Estrella de 5 puntas"/>
          <p:cNvSpPr/>
          <p:nvPr/>
        </p:nvSpPr>
        <p:spPr>
          <a:xfrm>
            <a:off x="8001000" y="1643040"/>
            <a:ext cx="1143000" cy="785880"/>
          </a:xfrm>
          <a:prstGeom prst="pie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14 Estrella de 5 puntas"/>
          <p:cNvSpPr/>
          <p:nvPr/>
        </p:nvSpPr>
        <p:spPr>
          <a:xfrm>
            <a:off x="5572080" y="3071880"/>
            <a:ext cx="1000080" cy="928800"/>
          </a:xfrm>
          <a:prstGeom prst="pie">
            <a:avLst/>
          </a:prstGeom>
          <a:solidFill>
            <a:srgbClr val="a8cdd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15 Estrella de 5 puntas"/>
          <p:cNvSpPr/>
          <p:nvPr/>
        </p:nvSpPr>
        <p:spPr>
          <a:xfrm>
            <a:off x="7358040" y="3143160"/>
            <a:ext cx="1071720" cy="785880"/>
          </a:xfrm>
          <a:prstGeom prst="pie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16 Estrella de 5 puntas"/>
          <p:cNvSpPr/>
          <p:nvPr/>
        </p:nvSpPr>
        <p:spPr>
          <a:xfrm>
            <a:off x="5286240" y="4929120"/>
            <a:ext cx="1357560" cy="928800"/>
          </a:xfrm>
          <a:prstGeom prst="pie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17 Estrella de 5 puntas"/>
          <p:cNvSpPr/>
          <p:nvPr/>
        </p:nvSpPr>
        <p:spPr>
          <a:xfrm>
            <a:off x="7358040" y="5000760"/>
            <a:ext cx="1285920" cy="100008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19 Conector recto"/>
          <p:cNvSpPr/>
          <p:nvPr/>
        </p:nvSpPr>
        <p:spPr>
          <a:xfrm>
            <a:off x="6643800" y="1571760"/>
            <a:ext cx="7128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21 Conector recto"/>
          <p:cNvSpPr/>
          <p:nvPr/>
        </p:nvSpPr>
        <p:spPr>
          <a:xfrm>
            <a:off x="3571920" y="2928960"/>
            <a:ext cx="5357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23 Conector recto"/>
          <p:cNvSpPr/>
          <p:nvPr/>
        </p:nvSpPr>
        <p:spPr>
          <a:xfrm>
            <a:off x="3571920" y="4857840"/>
            <a:ext cx="5072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18 Más"/>
          <p:cNvSpPr/>
          <p:nvPr/>
        </p:nvSpPr>
        <p:spPr>
          <a:xfrm>
            <a:off x="5000760" y="2000160"/>
            <a:ext cx="285480" cy="357120"/>
          </a:xfrm>
          <a:prstGeom prst="pie">
            <a:avLst/>
          </a:prstGeom>
          <a:solidFill>
            <a:srgbClr val="ffff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19 Más"/>
          <p:cNvSpPr/>
          <p:nvPr/>
        </p:nvSpPr>
        <p:spPr>
          <a:xfrm>
            <a:off x="5072040" y="3571920"/>
            <a:ext cx="285840" cy="357120"/>
          </a:xfrm>
          <a:prstGeom prst="pie">
            <a:avLst/>
          </a:prstGeom>
          <a:solidFill>
            <a:srgbClr val="ffff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20 Más"/>
          <p:cNvSpPr/>
          <p:nvPr/>
        </p:nvSpPr>
        <p:spPr>
          <a:xfrm>
            <a:off x="7858080" y="2143080"/>
            <a:ext cx="285840" cy="357120"/>
          </a:xfrm>
          <a:prstGeom prst="pie">
            <a:avLst/>
          </a:prstGeom>
          <a:solidFill>
            <a:srgbClr val="ffff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21 Más"/>
          <p:cNvSpPr/>
          <p:nvPr/>
        </p:nvSpPr>
        <p:spPr>
          <a:xfrm>
            <a:off x="4929120" y="5357880"/>
            <a:ext cx="357120" cy="428400"/>
          </a:xfrm>
          <a:prstGeom prst="pie">
            <a:avLst/>
          </a:prstGeom>
          <a:solidFill>
            <a:srgbClr val="ffff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214200" y="258840"/>
          <a:ext cx="8929800" cy="5257800"/>
        </p:xfrm>
        <a:graphic>
          <a:graphicData uri="http://schemas.openxmlformats.org/drawingml/2006/table">
            <a:tbl>
              <a:tblPr/>
              <a:tblGrid>
                <a:gridCol w="2000520"/>
                <a:gridCol w="2786040"/>
                <a:gridCol w="414324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cbe1e7"/>
                          </a:solidFill>
                          <a:latin typeface="Rockwell"/>
                        </a:rPr>
                        <a:t>ETAPAS DEL DISEÑO CURRICULA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TAPA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be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TAPA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cd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TAPA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6e2e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DIAGNÓ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ROGRAM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GEST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0ec"/>
                    </a:solidFill>
                  </a:tcPr>
                </a:tc>
              </a:tr>
              <a:tr h="371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TER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NTER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1 Perfil ocupacion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2 Perfil  profesi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3 Competencias generales de la carre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4 Competencias específ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5 Áreas curriculares.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5.1 Área específica: (nombre de los cursos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5.2Área complement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(nombre de los cursos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5.3Ejes transversales: investigación, ética, entre otr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6 Estructura del plan de estud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7 Malla curricul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1 Requisitos de ingreso y criterios de adm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2 Requisitos de grad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3 Título y grado que se otorg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4 Duración y créditos del programa (resumen).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5 Características del director (a) de carrer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6. Servicios de biblioteca,  laboratorio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8 Recursos de apoyo didáctico y de aprendizaje (Laboratorios, biblioteca, internet, equipo y otros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9 Tarifas de matrícula y costos de los cursos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10. Personal académ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1" lang="es-ES" sz="3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1" lang="es-ES" sz="3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VALUACIÓN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" sz="7200" spc="-1" strike="noStrike">
                <a:solidFill>
                  <a:srgbClr val="cbe1e7"/>
                </a:solidFill>
                <a:latin typeface="Rockwell"/>
              </a:rPr>
              <a:t>¿QUÉ ES UN DIAGNÓSTICO</a:t>
            </a:r>
            <a:r>
              <a:rPr b="0" lang="es-ES" sz="72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Users\Luis\Documents\CURRICULO HONDURAS\imagen 1.jpg"/>
          <p:cNvPicPr/>
          <p:nvPr/>
        </p:nvPicPr>
        <p:blipFill>
          <a:blip r:embed="rId2"/>
          <a:stretch/>
        </p:blipFill>
        <p:spPr>
          <a:xfrm>
            <a:off x="1554120" y="164628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1 Título" descr=""/>
          <p:cNvPicPr/>
          <p:nvPr/>
        </p:nvPicPr>
        <p:blipFill>
          <a:blip r:embed="rId1"/>
          <a:stretch/>
        </p:blipFill>
        <p:spPr>
          <a:xfrm>
            <a:off x="1365120" y="480960"/>
            <a:ext cx="8083800" cy="963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13716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Rockwell"/>
              </a:rPr>
              <a:t>Proviene del griego diagnostikós formado por el prefijo día (a través), y gnosis (conocimiento o apto para conocer). 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Rockwell"/>
              </a:rPr>
              <a:t>Análisis que se realiza para determinar  la situación  de una realidad social y cuáles son sus tendencias . 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Rockwell"/>
              </a:rPr>
              <a:t>Aporta   datos  de un hecho social  recogidos y ordenados sistemáticamente para conocer( externa e internamente) determinado  hecho  social . 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be1e7"/>
                </a:solidFill>
                <a:latin typeface="Rockwell"/>
              </a:rPr>
              <a:t>¿ QUÉ ES UN DIAGNÓSTICO CURRICULAR?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3784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Rockwell"/>
              </a:rPr>
              <a:t>Proceso que  nos permite conocer determinada  realidad social de un diseño curricular   (en  sus ámbitos  externo e interno)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Rockwell"/>
              </a:rPr>
              <a:t>¿CUÁL ES EL PROPÓSITO DEL DIAGNÓSTICO CURRICULAR?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13:39:12Z</dcterms:created>
  <dc:creator>Luis</dc:creator>
  <dc:description/>
  <dc:language>en-US</dc:language>
  <cp:lastModifiedBy>Luis</cp:lastModifiedBy>
  <dcterms:modified xsi:type="dcterms:W3CDTF">2018-03-18T16:26:18Z</dcterms:modified>
  <cp:revision>37</cp:revision>
  <dc:subject/>
  <dc:title>El diagnostico curricular</dc:title>
</cp:coreProperties>
</file>