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4E2-ABEF-4033-ABA9-20073F98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3BC-0C22-4B99-9414-E44C29AA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5D7-B90F-44FE-96BE-A4DBD4EA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51F-00CB-4FEE-88CA-993D5809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7249-6483-4519-B02A-89A688B9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FCFBF-58DE-46A1-A49E-9365FB5C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5DFC-62ED-4E59-8EC9-87EC8988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5DFD-EB75-4A42-86AD-CAC7D86A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E6744-18C8-4ED8-9700-ED4954E1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BA594-5922-46AF-9EEC-E0D158E4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DC310-F1F6-4DFB-A254-C5820A5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D17-CEC6-4843-912A-4D22302B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9D173-EA2A-42E7-81B1-5B88403E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1863A-170F-452C-A468-93154AF9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74687-4D34-42D6-93AD-CB9363F5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A4E2E-64B2-470D-911B-ACFDB6A9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E5E9D-A5B6-4B76-8975-68E7713D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ADC2-D1C1-40A7-AA53-9FB91D23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3798-5B47-4969-B626-3161BAFA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A7C7-3C52-464C-94C0-2B437AB2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7D40-36FF-4EA8-B363-14B9714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54F4-B13A-41AA-B356-D9724CE4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139-9731-462F-918B-9D01B7CC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0934-0461-4E0F-94F6-EED0E134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555F-6F64-4728-A555-8CFAEB3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8866-BD01-49BE-8EB7-FCBB4F3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A58B-610B-4BEE-BACF-D0ADBAA5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4795-2187-46FE-A20D-8A0C02E2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4C94-119C-4B5C-9388-CB2BB7C4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C144-8576-47F7-89A0-78C0695B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F3DB9-0386-4885-BAA0-145F3D1D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B0746-0075-4123-8527-19F8199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2A8D6-6884-40D5-9BC0-DB4BF57D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DCB-16AD-4484-B4F6-8E1228A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8CB4E-63ED-4A43-804A-5288CF1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C5EE4-A9C9-4C64-AEB2-793FFCB6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7C249-0185-481F-9A49-38ED772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F1120-575D-49A5-AE47-EA53C83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7C0A8-7BD3-4708-89D3-1F26A89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3DD2F-8FEF-4E31-8224-C50948A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397BA-43BA-4E08-A59A-C1442493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947F3D-D421-402A-9C32-6229516A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521A4-F4E3-451E-AD55-ED2FA394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FD3-15D3-4E5E-B1E7-014D54B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735-6990-45E7-BAFD-BA37B1A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73B-A3D2-4B1F-8F5A-DE9A842A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77E-7F30-46B6-9916-6DD9504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3FA-201A-466A-8BB9-95B4B76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103-0022-482D-8265-C8097EB76C51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16F5-BB6F-4E46-9F40-8424BBE19AF1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9FC-84E7-42FB-85E6-F90F61FA3E7C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3E6D-778E-4433-8977-9D27F9E6D747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1/empre/empre.shtml" TargetMode="External"/><Relationship Id="rId2" Type="http://schemas.openxmlformats.org/officeDocument/2006/relationships/hyperlink" Target="http://www.monografias.com/trabajos11/sercli/sercli.s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7200" y="1432080"/>
            <a:ext cx="8315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SEIS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Empleabilidad de la carrer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Población me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Objeto de estud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Tipo  de concepción curricul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Visión y Mi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istoria (UNAH y carrera)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900" spc="-1" strike="noStrike">
                <a:solidFill>
                  <a:srgbClr val="ffffff"/>
                </a:solidFill>
                <a:latin typeface="Constantia"/>
              </a:rPr>
              <a:t>SUBDIMENSIONES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1 EMPLEABILIDAD DE LA CARRERA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Necesidades laborales y académicas en el país  que respalden la apertura o modificación de la carrera. Considerar el contexto socioeconómico y político del país y sustentarlo con datos estadísticos de la realidad nacion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2  OBJETO DE ESTUDIO O NATURALEZA DE LA CARRER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Debe ser evidenciado y conceptualizado con amplitu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3   POBLACIÓN MET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Especificar el campo ocupacional de los egresado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Plantear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los intereses, motivaciones y expectativas de los y las  estudiantes y su relación con  la dimensión axiológica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Plantear la orientación humanista en la formación del estudi</a:t>
            </a:r>
            <a:r>
              <a:rPr b="0" lang="es-CR" sz="1600" spc="-1" strike="noStrike">
                <a:solidFill>
                  <a:srgbClr val="ffffff"/>
                </a:solidFill>
                <a:latin typeface="Constantia"/>
              </a:rPr>
              <a:t>antado</a:t>
            </a:r>
            <a:r>
              <a:rPr b="0" lang="es-CR" sz="1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ON 2.5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Enfoque curricular por competencia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Sustenta la estructura del plan de estudios de la carrera, ( respalda la propuesta) y define aspectos tales como: metodología, estrategias de aprendizaje y evaluación de aprendizajes, que permitan identificar, tanto las características de aprendizaje de los estudiantes como la coherencia de los elementos del plan de estudios presentado</a:t>
            </a:r>
            <a:r>
              <a:rPr b="0" lang="es-CR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ÓN 2.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Historia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UNAH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carrera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SUBDIMENSION 2.5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,  </a:t>
            </a:r>
            <a:r>
              <a:rPr b="0" lang="es-CR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3 Rectángulo"/>
          <p:cNvSpPr/>
          <p:nvPr/>
        </p:nvSpPr>
        <p:spPr>
          <a:xfrm>
            <a:off x="1143000" y="2500200"/>
            <a:ext cx="164304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2060"/>
                </a:solidFill>
                <a:latin typeface="Constantia"/>
              </a:rPr>
              <a:t>Visión</a:t>
            </a:r>
            <a:r>
              <a:rPr b="1" lang="es-E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4 Rectángulo"/>
          <p:cNvSpPr/>
          <p:nvPr/>
        </p:nvSpPr>
        <p:spPr>
          <a:xfrm>
            <a:off x="3143160" y="2000160"/>
            <a:ext cx="49291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“SER “de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 la carrera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5 Rectángulo redondeado"/>
          <p:cNvSpPr/>
          <p:nvPr/>
        </p:nvSpPr>
        <p:spPr>
          <a:xfrm>
            <a:off x="3286080" y="285768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 EL “QUÉ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Responde a la pregunta ¿qué  es  la institución (o carrera) 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6 Rectángulo"/>
          <p:cNvSpPr/>
          <p:nvPr/>
        </p:nvSpPr>
        <p:spPr>
          <a:xfrm>
            <a:off x="1143000" y="4214880"/>
            <a:ext cx="17146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7 Rectángulo"/>
          <p:cNvSpPr/>
          <p:nvPr/>
        </p:nvSpPr>
        <p:spPr>
          <a:xfrm>
            <a:off x="3357720" y="3929040"/>
            <a:ext cx="471456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propósito de 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de la carrera 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8 Rectángulo redondeado"/>
          <p:cNvSpPr/>
          <p:nvPr/>
        </p:nvSpPr>
        <p:spPr>
          <a:xfrm>
            <a:off x="3214800" y="4929120"/>
            <a:ext cx="4786200" cy="1285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el “ PARA  QUÉ”  .Responde a la pregunta ¿  para qué existe la universidad ( o la carrera)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9 Flecha arriba y abajo"/>
          <p:cNvSpPr/>
          <p:nvPr/>
        </p:nvSpPr>
        <p:spPr>
          <a:xfrm>
            <a:off x="1714680" y="3357720"/>
            <a:ext cx="500040" cy="85716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11 Conector recto de flecha"/>
          <p:cNvCxnSpPr>
            <a:stCxn id="178" idx="3"/>
            <a:endCxn id="179" idx="1"/>
          </p:cNvCxnSpPr>
          <p:nvPr/>
        </p:nvCxnSpPr>
        <p:spPr>
          <a:xfrm flipV="1">
            <a:off x="2786040" y="2393280"/>
            <a:ext cx="357840" cy="500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13 Conector recto de flecha"/>
          <p:cNvCxnSpPr>
            <a:stCxn id="178" idx="3"/>
            <a:endCxn id="180" idx="1"/>
          </p:cNvCxnSpPr>
          <p:nvPr/>
        </p:nvCxnSpPr>
        <p:spPr>
          <a:xfrm>
            <a:off x="2785680" y="2894040"/>
            <a:ext cx="500760" cy="464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15 Conector recto de flecha"/>
          <p:cNvCxnSpPr>
            <a:stCxn id="181" idx="3"/>
          </p:cNvCxnSpPr>
          <p:nvPr/>
        </p:nvCxnSpPr>
        <p:spPr>
          <a:xfrm flipV="1">
            <a:off x="2857320" y="4285440"/>
            <a:ext cx="643320" cy="322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17 Conector recto de flecha"/>
          <p:cNvCxnSpPr>
            <a:stCxn id="181" idx="3"/>
          </p:cNvCxnSpPr>
          <p:nvPr/>
        </p:nvCxnSpPr>
        <p:spPr>
          <a:xfrm>
            <a:off x="2857320" y="4608000"/>
            <a:ext cx="286200" cy="96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omos una exitosa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empresa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 detallista de bienes y servicios, reconocida por su capacidad de generar bienestar para nuestros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clientes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, colaboradores, accionistas, y nuestra comunidad en gener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atisfacer a nuestros clientes, brindándoles, al mejor precio posible, productos y servicios de calidad, adecuados a sus necesidades; y exceder sus expectativas, sirviéndoles con esmero, originalidad, y atención a los detalles</a:t>
            </a:r>
            <a:r>
              <a:rPr b="0" lang="es-E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2 Título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QUÉ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OC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3" name="4 Rectángulo"/>
          <p:cNvSpPr/>
          <p:nvPr/>
        </p:nvSpPr>
        <p:spPr>
          <a:xfrm>
            <a:off x="3500280" y="1571760"/>
            <a:ext cx="4143600" cy="1000080"/>
          </a:xfrm>
          <a:prstGeom prst="rect">
            <a:avLst/>
          </a:prstGeom>
          <a:solidFill>
            <a:srgbClr val="e7bc29"/>
          </a:solidFill>
          <a:ln w="38160">
            <a:solidFill>
              <a:srgbClr val="aa8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1.EMPLEABILIDAD DE LA CARRE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5 Rectángulo redondeado"/>
          <p:cNvSpPr/>
          <p:nvPr/>
        </p:nvSpPr>
        <p:spPr>
          <a:xfrm>
            <a:off x="4929120" y="4714920"/>
            <a:ext cx="1643040" cy="1571760"/>
          </a:xfrm>
          <a:prstGeom prst="roundRect">
            <a:avLst>
              <a:gd name="adj" fmla="val 16667"/>
            </a:avLst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3.OBJETO DE EST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6 Rectángulo redondeado"/>
          <p:cNvSpPr/>
          <p:nvPr/>
        </p:nvSpPr>
        <p:spPr>
          <a:xfrm>
            <a:off x="6000840" y="2786040"/>
            <a:ext cx="2143080" cy="17146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2.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7 Rectángulo redondeado"/>
          <p:cNvSpPr/>
          <p:nvPr/>
        </p:nvSpPr>
        <p:spPr>
          <a:xfrm>
            <a:off x="1214280" y="4786200"/>
            <a:ext cx="2214720" cy="1357560"/>
          </a:xfrm>
          <a:prstGeom prst="roundRect">
            <a:avLst>
              <a:gd name="adj" fmla="val 16667"/>
            </a:avLst>
          </a:prstGeom>
          <a:solidFill>
            <a:srgbClr val="809ec2"/>
          </a:solidFill>
          <a:ln w="38160">
            <a:solidFill>
              <a:srgbClr val="5c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4.TIPO  DE CONCEPC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8 Rectángulo redondeado"/>
          <p:cNvSpPr/>
          <p:nvPr/>
        </p:nvSpPr>
        <p:spPr>
          <a:xfrm>
            <a:off x="428760" y="3000240"/>
            <a:ext cx="2500200" cy="1500480"/>
          </a:xfrm>
          <a:prstGeom prst="roundRect">
            <a:avLst>
              <a:gd name="adj" fmla="val 16667"/>
            </a:avLst>
          </a:prstGeom>
          <a:solidFill>
            <a:srgbClr val="f3a447"/>
          </a:solidFill>
          <a:ln w="381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5.VISION Y 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UNIVERSIDA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CARR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10 Conector recto de flecha"/>
          <p:cNvCxnSpPr/>
          <p:nvPr/>
        </p:nvCxnSpPr>
        <p:spPr>
          <a:xfrm flipV="1">
            <a:off x="4285080" y="2714040"/>
            <a:ext cx="2520" cy="572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12 Conector recto de flecha"/>
          <p:cNvCxnSpPr/>
          <p:nvPr/>
        </p:nvCxnSpPr>
        <p:spPr>
          <a:xfrm>
            <a:off x="5143320" y="3714840"/>
            <a:ext cx="92916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14 Conector recto de flecha"/>
          <p:cNvCxnSpPr/>
          <p:nvPr/>
        </p:nvCxnSpPr>
        <p:spPr>
          <a:xfrm>
            <a:off x="5214600" y="4286160"/>
            <a:ext cx="572040" cy="3578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1" name="19 Conector recto de flecha"/>
          <p:cNvCxnSpPr/>
          <p:nvPr/>
        </p:nvCxnSpPr>
        <p:spPr>
          <a:xfrm flipH="1" flipV="1">
            <a:off x="3000240" y="3642480"/>
            <a:ext cx="643320" cy="2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21 Conector recto de flecha"/>
          <p:cNvCxnSpPr/>
          <p:nvPr/>
        </p:nvCxnSpPr>
        <p:spPr>
          <a:xfrm flipH="1">
            <a:off x="3428280" y="4428720"/>
            <a:ext cx="42948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3" name="15 Conector recto de flecha"/>
          <p:cNvCxnSpPr/>
          <p:nvPr/>
        </p:nvCxnSpPr>
        <p:spPr>
          <a:xfrm flipH="1" flipV="1">
            <a:off x="3142800" y="2785320"/>
            <a:ext cx="57240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16 Rectángulo redondeado"/>
          <p:cNvSpPr/>
          <p:nvPr/>
        </p:nvSpPr>
        <p:spPr>
          <a:xfrm>
            <a:off x="857160" y="1643040"/>
            <a:ext cx="2357640" cy="1071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6.Historia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rr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143000" y="428760"/>
          <a:ext cx="7000920" cy="6065640"/>
        </p:xfrm>
        <a:graphic>
          <a:graphicData uri="http://schemas.openxmlformats.org/drawingml/2006/table">
            <a:tbl>
              <a:tblPr/>
              <a:tblGrid>
                <a:gridCol w="1751040"/>
                <a:gridCol w="1749240"/>
                <a:gridCol w="1751040"/>
                <a:gridCol w="1749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57160" y="122400"/>
          <a:ext cx="7500960" cy="66960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6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rmenéu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lec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u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 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estion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involuc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 IN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Sitio Vicerrectoría Académica</cp:lastModifiedBy>
  <dcterms:modified xsi:type="dcterms:W3CDTF">2018-03-21T21:47:21Z</dcterms:modified>
  <cp:revision>25</cp:revision>
  <dc:subject/>
  <dc:title>EL DIAGNÓSTICO EXTERNO</dc:title>
</cp:coreProperties>
</file>