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008-4636-49A1-92EA-D6BCB9E1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9D0-19C7-4BA7-A4D6-3CF856A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996-ADBD-47C6-858A-3D76DE7D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A26-85D6-49EA-AE2C-3F2A5541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3DA7E-C9FB-42CB-BA83-34D703A3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AC045-9D8C-4D6D-B5CF-C0CC3EE6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F9F0C-5D0F-4895-A820-05D265EA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02066-B9B9-4B34-A4D1-453F2FA6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AA84-CD39-4ADB-B462-B5226E5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5D82D-B318-428A-AF6B-877CC168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B7E36-BDDD-4E5F-A296-8C0393D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E7A-C0B1-4CF3-B7EE-5F6A5060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7F09A-631C-4254-9C30-F91EE276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98FF8-0B9F-473E-89CC-2C8307A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294E9-E0D2-42FE-8A57-1CA4EF81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76420-244C-4D15-9A34-C6E14D18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A91ED-D97A-4633-8E7A-72A8D0DB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8D5B-B18E-463D-BE01-2124C925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C215-0F44-4E92-A88C-249778AA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BF67-1A33-4E0A-8A9F-A4B46418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5F5F-0532-4596-AE41-289B9918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A618-1E25-4AAF-BC4B-93596437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E00-5641-45A2-93DB-632F00A1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120B-A6C6-47BF-B2FD-71DA4A73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615F-F1F7-4769-8006-A8D3079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CF70-B21A-471C-809C-1123E79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FD64-6771-4C4A-81C1-982035B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FD6A-4EC5-42BC-8F94-6E6D54B0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0F56-6D8E-47E6-A7A1-9B670A93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7417-E1FD-445D-BB69-1A34BF65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89027-143D-4D0D-9D04-42234C0C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965EC-4F3C-4E77-8E9A-BE25FC2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764C3-1926-41DE-A4A9-8327FFEF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99E-469A-43DA-A6EE-45034651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60AEF-099D-4B13-9F79-D64AAA7F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BE6C1-E5CA-4864-B893-5BA2CEB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62D94-860F-467B-B373-044B435F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D29C6-53AA-4E09-872A-FF46D20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AB69C-7AEA-4C91-B8D1-B0EF121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CA50E-B7BE-4078-9789-77068EB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38993-A2FC-43B7-B84B-CE56281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A19F9-AC7C-4D22-94FA-4AE3DC96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46A47-F1FF-45D9-99F0-00B81693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C1F-CA14-4B23-AD1A-2A0D281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536-159B-441E-9936-C9D1EAD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2F7-F3D0-461C-BCBA-D735790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AD7-62D3-4A41-94C2-7BC1D43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7E6-070A-427C-9743-05BA583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2B23-A3B8-4239-A442-FC62CD82D7BA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60D-7439-466D-9D1E-21A00C9D7F7C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7400-ED0B-49B8-B3AF-7FD3A80918CE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081F-E1CE-4DFC-ACFE-81FCE789C3F4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82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381880" cy="1266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Constantia"/>
              </a:rPr>
              <a:t>¿QUÉ CONOCER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2 ¿Para qué sirve en nuestra sociedad ?    (Referentes universales y referentes nacionales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Las tendencias actuales de 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3.Otros diseños similares extranjeros y nacional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85920" y="0"/>
          <a:ext cx="6095880" cy="6218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857160" y="142920"/>
          <a:ext cx="7500960" cy="658332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 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étodos   de  los enfoques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écnicas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mentos 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378000" y="146160"/>
            <a:ext cx="8351640" cy="1231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EX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CINCO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1. Justificación de la carrera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Tendencias actuales de  la disciplin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3. Diseños similares extranjeros y nacional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4. Demandas sociales  (contexto mundial y nacional )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5. Aspectos  conceptual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0004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INDICACIÓN  IMPORTANTE  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Elabore una ficha por  aspecto particular investigad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a. Inserte una tabla  con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dos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columnas  y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cinco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 línea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b. Rotúlelas de la siguiente manera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614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500120" y="3357720"/>
          <a:ext cx="6096240" cy="3227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UBDIMENSIÓN  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DAMENTACIÓN DE LA CARR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OR(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ferencias bibliográf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  nombre de la publicación editorial,  Nº de edición, ciudad , país, añ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ta (textual o contextu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rección electrón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 el taller siguiendo las indicaciones dadas por el facilitad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Luis</cp:lastModifiedBy>
  <dcterms:modified xsi:type="dcterms:W3CDTF">2018-03-18T16:40:22Z</dcterms:modified>
  <cp:revision>12</cp:revision>
  <dc:subject/>
  <dc:title>EL DIAGNÓSTICO EXTERNO</dc:title>
</cp:coreProperties>
</file>