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FBA8-6C83-49B3-A963-7B0A4129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73C7-9AFF-47E9-89C9-46FBE201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88C91B-81F4-46FD-B872-9C074BE6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EDEC42-9730-47AF-ACCE-41B8B35D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A7B567-48F0-4A5A-8DE6-C373E682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977214-49AE-4207-AE01-3B3D6E5C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FABB37-EB15-4482-900C-275B1FD2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BD2265-F6C5-42D9-8DA3-0804F526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782E91-9969-461A-A4D1-06FE1B4D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9C0E1C-0AFB-4C9F-99B3-19B72649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9E891D-C33C-4EAB-A479-EA2E69D0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C28-FB84-4018-91E7-62AB5D86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8498-7DDB-4062-9644-F57BFF41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E9E94-7B0C-46B5-A271-A7678626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5D4BB-430E-4AB4-8AC6-D9FECCE5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9D6B9-8BC2-414C-89AC-6910EE29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3F964-4605-48C3-84AF-45B55A25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083FF-139A-4DB7-A83A-367BB15B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FECB5-2614-417F-A16E-55026F85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141B7-B9FB-49B2-B2A7-A9520737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FC1D-C952-41EC-BEF4-F3702913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41149-DC30-49FC-B55F-E9499BAB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2CA1E-DD3D-4D38-8390-24ACF7DF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2399C-3DC5-44BD-B149-195C5634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6A8A9-9C67-44E0-A96B-1523C8DD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6DA59-7140-4DC0-AD9D-1DD4CAD5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6F7FF-81D8-4AE3-A8AD-3CE23AB7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AE138-5B8C-4EFC-BD26-7D51AD3C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44762-9CEA-443C-B1FF-6A4C475B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9A9D4-58C8-4535-96E0-4406257C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642AF-E170-415E-A1CA-CA7C7F9C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A764-85A0-447C-98EB-3126F0CD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BAB56-343C-4BE5-AE16-B24E69AE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DB8BA-6869-4370-90C4-E8BF1952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C5DDD-E88F-40C4-BDCC-653EAA8A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4C8BC-EE2C-47C5-A8C1-D557EA6D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0478C-36ED-4475-896B-764969BD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93B48-CE6E-47DC-849A-6D14A7CE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631FA-FBCE-476F-A90D-93012F29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0C8AAE-FD91-43E8-88B6-09853FB8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3F3C91-C00A-43D3-9E85-54DF35FD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8C4D8B-E7E5-42CE-8B2D-EE02AC6A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5F84-F2CC-42DD-B4AA-582E01E7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790D59-0955-4848-921C-9235419B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1A36B2-C320-48F8-9E20-485F2A3E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38D8BE-D33D-4EE1-B338-74C2A4A4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FCDA6C-4D12-4BBA-AFAF-9DA21821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D9A311-7D63-45EF-AAC8-7837C2E4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F4C35E-FF9B-4BB6-8056-A8D19E81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5ED295-6E82-41D5-8F9A-8423CCB3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FFBFF5-59C7-4664-8C9E-6598DFFD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CDBE06-5686-443D-91F2-51556B6A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0F91A-CDDA-434D-B2B8-564BD2C3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0BA3-058C-4F6E-872C-D9044CF2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E238E-06D0-4146-8F9D-46D68D7A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C09DF-5C3F-4010-949D-66701574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4F188-1EF1-45EA-A957-2DE80C07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1EE44-470A-4877-84EA-B862E706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DEF77-8875-40A4-A650-926B72F5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FCE22-736F-4D37-B7DD-7604BA97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88A45-9562-44E3-A4AE-5883D818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F2737-2071-4953-816E-16D7F7B1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9719D-9910-48FC-BCA5-ABA41D07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F3D8B-04FF-4627-A688-26CCED6D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3E33-B188-49E9-81B7-F59F31D6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7E5DA-2D76-4963-8B4B-3BBFDA2F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C20F0-5CC5-4526-9B67-A2A9089D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EFDD2-5528-42C7-8DE5-ED8F2161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B43C3-CAAB-4261-8D9B-31E7CD24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5F8A3-7A15-4DAB-8443-A14BE41F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FA000-842B-41BF-B5AF-1DA80A60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8CCF5-5C19-45CB-B6A9-70FABC29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2DA16-2EA0-4240-AF29-ECFCDBEB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EBB2E-035C-43FC-8586-A5F02067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36C6D-7239-4B6A-9463-EDA3DCD9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E035-C8F8-458E-B741-D50E55D6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82A65-BA4B-4BF5-A884-4117BFB3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B37A8-D4B6-4969-8A16-2DF95903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E4286-11AD-4636-8065-97C983E2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6A18F-D275-4D0D-8358-C2D047BF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9ED72-444D-44AE-A8BB-A593DABD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FDAB4-0DCA-4951-965B-688C6A48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DB9C1-CB20-4763-93AB-B0F56251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2E803-3D62-43B7-B63D-D81F60A7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A6AA3-F61F-4D2B-BE63-F5FE89CB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21F4D-3FE3-4A62-9060-B5ADB604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B5CF-A7C5-4517-9ADC-7F0B7D99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4EFDB-9809-4D5C-8D9B-D09FA564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8ECBF-3CCD-4302-9AC8-7CE4B311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73609-5147-483E-B7F6-93158BC5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B6D18-2DE9-4B58-BA92-C11D2AD4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EE0FE-D3E0-401A-A47D-5FA7863A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385F81-9E70-41CB-94F3-775EA45E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01DABE-E1D8-4539-AC94-B941A5F0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5F2A98-680D-4CC8-8291-81380BC4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041FD8-E269-4465-98C3-A36BB8E9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6B79EB-DD70-4D69-BC0C-8D246675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74B9-6B26-4C4E-AFD0-E6183610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3984B9-C288-4F28-8B60-EE7D9E05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DC5CDE-343E-46CE-ADCA-7143D436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AA3353-750F-4234-AC50-82F1A24F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CE5417-DF39-4454-B8DE-6232B21D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877B1B-942D-4C7D-BA94-B65F93C7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D9491C-EB55-4BF3-85AD-161868C9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CDCCDC-301F-4D97-B6DD-FF91A453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222B2D-FDC6-4066-9C3D-53ACC51D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A50C9F-48EF-4ECC-96A3-DB2BC94C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EC0149-6DEB-4956-9099-30BDD7D5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Redondear rectángulo de esquina diagonal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3704-16E2-46E8-9FD2-B073B0022104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dondear rectángulo de esquina diagonal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7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A26C-E1FF-4848-B416-4188843D9C21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6 Redondear rectángulo de esquina diagonal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7 Rectángulo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429B-F889-46B3-8790-65EC0B93168F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1072-7C02-4CEB-8BF8-2CC5A7BA5A79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6 Redondear rectángulo de esquina diagonal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7 Rectángulo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365B-C4AE-4C35-BDC6-317C2F3C6F65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6 Redondear rectángulo de esquina diagonal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7 Rectángulo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8 Rectángulo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7D01-DB7C-4CBC-8E07-8D79A6F1A060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6 Redondear rectángulo de esquina diagonal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7 Rectángulo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63A4-9579-448B-924C-CB33073E5E2A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7 Rectángulo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41AE-4217-4815-9F4F-B29DB74A8E1F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E2B0-18ED-4D9F-AE80-16FFEFD2A0CA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mailto:donricardo2006@hotmail.com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1 Título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381880" cy="22190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85880" y="350028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0f2d8"/>
                </a:solidFill>
                <a:latin typeface="Rockwell"/>
              </a:rPr>
              <a:t>Dr. Luis Ricardo Villalobos Zamora</a:t>
            </a:r>
            <a:br>
              <a:rPr sz="3200"/>
            </a:br>
            <a:r>
              <a:rPr b="0" lang="es-ES" sz="3200" spc="-1" strike="noStrike" u="sng">
                <a:solidFill>
                  <a:srgbClr val="db5353"/>
                </a:solidFill>
                <a:uFillTx/>
                <a:latin typeface="Rockwell"/>
                <a:hlinkClick r:id="rId2"/>
              </a:rPr>
              <a:t>donricardo2006@hotmail.com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Tel (+506 )8837 5773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1 Título" descr=""/>
          <p:cNvPicPr/>
          <p:nvPr/>
        </p:nvPicPr>
        <p:blipFill>
          <a:blip r:embed="rId1"/>
          <a:stretch/>
        </p:blipFill>
        <p:spPr>
          <a:xfrm>
            <a:off x="907920" y="506520"/>
            <a:ext cx="8444160" cy="9255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Aportar conocimiento para  el diseño de la programación ,  la gestión  y evaluación del diseño curricular  para responder a los requerimientos de una carrera determinada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f0f2d8"/>
              </a:solidFill>
              <a:latin typeface="Rockwell"/>
            </a:endParaRPr>
          </a:p>
        </p:txBody>
      </p:sp>
      <p:pic>
        <p:nvPicPr>
          <p:cNvPr id="428" name="Picture 2" descr="C:\Users\Luis\Documents\CURRICULO HONDURAS\imagen 3.jpg"/>
          <p:cNvPicPr/>
          <p:nvPr/>
        </p:nvPicPr>
        <p:blipFill>
          <a:blip r:embed="rId1"/>
          <a:stretch/>
        </p:blipFill>
        <p:spPr>
          <a:xfrm>
            <a:off x="428760" y="428760"/>
            <a:ext cx="857232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686800" cy="11653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3 Rectángulo"/>
          <p:cNvSpPr/>
          <p:nvPr/>
        </p:nvSpPr>
        <p:spPr>
          <a:xfrm>
            <a:off x="5286240" y="2143080"/>
            <a:ext cx="2857680" cy="9288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1.USANDO  SIEMPRE LA AUTOCRÍ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6 Rectángulo redondeado"/>
          <p:cNvSpPr/>
          <p:nvPr/>
        </p:nvSpPr>
        <p:spPr>
          <a:xfrm>
            <a:off x="5286240" y="3643200"/>
            <a:ext cx="2786040" cy="100008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2.COEVALUANDO EL TRABAJO REALIZADO POR EL  EQUIP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7 Rectángulo redondeado"/>
          <p:cNvSpPr/>
          <p:nvPr/>
        </p:nvSpPr>
        <p:spPr>
          <a:xfrm>
            <a:off x="5214960" y="5214960"/>
            <a:ext cx="2786040" cy="135720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3.OBTENIENDO  UNA  PERSPECTIVA HOLISTICA DEL HECHO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8 Sol"/>
          <p:cNvSpPr/>
          <p:nvPr/>
        </p:nvSpPr>
        <p:spPr>
          <a:xfrm>
            <a:off x="214200" y="2357280"/>
            <a:ext cx="4143600" cy="3357720"/>
          </a:xfrm>
          <a:prstGeom prst="sun">
            <a:avLst>
              <a:gd name="adj" fmla="val 25000"/>
            </a:avLst>
          </a:prstGeom>
          <a:solidFill>
            <a:srgbClr val="a8cdd7"/>
          </a:solidFill>
          <a:ln w="38160">
            <a:solidFill>
              <a:srgbClr val="7a96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FI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CONOCER UN HECHO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5" name="11 Conector recto de flecha"/>
          <p:cNvCxnSpPr>
            <a:endCxn id="431" idx="1"/>
          </p:cNvCxnSpPr>
          <p:nvPr/>
        </p:nvCxnSpPr>
        <p:spPr>
          <a:xfrm flipV="1">
            <a:off x="3929040" y="2606400"/>
            <a:ext cx="1357920" cy="286560"/>
          </a:xfrm>
          <a:prstGeom prst="straightConnector1">
            <a:avLst/>
          </a:prstGeom>
          <a:ln w="76320">
            <a:solidFill>
              <a:srgbClr val="b0ccb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36" name="14 Conector recto de flecha"/>
          <p:cNvCxnSpPr>
            <a:stCxn id="434" idx="3"/>
          </p:cNvCxnSpPr>
          <p:nvPr/>
        </p:nvCxnSpPr>
        <p:spPr>
          <a:xfrm flipV="1">
            <a:off x="4357440" y="3999960"/>
            <a:ext cx="929160" cy="37080"/>
          </a:xfrm>
          <a:prstGeom prst="straightConnector1">
            <a:avLst/>
          </a:prstGeom>
          <a:ln w="76320">
            <a:solidFill>
              <a:srgbClr val="9fb99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37" name="17 Conector recto de flecha"/>
          <p:cNvCxnSpPr/>
          <p:nvPr/>
        </p:nvCxnSpPr>
        <p:spPr>
          <a:xfrm>
            <a:off x="3857400" y="5285880"/>
            <a:ext cx="1215000" cy="358200"/>
          </a:xfrm>
          <a:prstGeom prst="straightConnector1">
            <a:avLst/>
          </a:prstGeom>
          <a:ln w="76320">
            <a:solidFill>
              <a:srgbClr val="9fb99f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748720" cy="11588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928800" y="1357200"/>
            <a:ext cx="777240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Conjunto de investigaciones proporcionan  el conocimiento para un diseño curricular determinado sobre  :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1. La justificación  de la carrera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     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1.1 ¿En qué consiste la carrera?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     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1.2 ¿Para qué sirve en nuestra sociedad ?    (Referentes universales y referentes nacionales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Las tendencias actuales de la disciplina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3.Otros diseños similares extranjeros y nacionales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4. Las demandas sociales  (contexto mundial y nacional )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5. Aspectos  conceptuales de la disciplina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57168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f0f2d8"/>
              </a:solidFill>
              <a:latin typeface="Rockwell"/>
            </a:endParaRPr>
          </a:p>
        </p:txBody>
      </p:sp>
      <p:pic>
        <p:nvPicPr>
          <p:cNvPr id="441" name="Picture 2" descr="C:\Users\Luis\Documents\CURRICULO HONDURAS\imagen 4.jpg"/>
          <p:cNvPicPr/>
          <p:nvPr/>
        </p:nvPicPr>
        <p:blipFill>
          <a:blip r:embed="rId1"/>
          <a:stretch/>
        </p:blipFill>
        <p:spPr>
          <a:xfrm>
            <a:off x="500040" y="571680"/>
            <a:ext cx="83581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1 Título" descr=""/>
          <p:cNvPicPr/>
          <p:nvPr/>
        </p:nvPicPr>
        <p:blipFill>
          <a:blip r:embed="rId1"/>
          <a:stretch/>
        </p:blipFill>
        <p:spPr>
          <a:xfrm>
            <a:off x="907920" y="208080"/>
            <a:ext cx="8143920" cy="12301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914400" y="1784520"/>
            <a:ext cx="7772400" cy="49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1.Historia de la Universidad y de la carrera 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Rockwell"/>
              </a:rPr>
              <a:t>2.2 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Postulados de la Universidad 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   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2.1 Misión de la Universidad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   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2.2 Visión de la Universidad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   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3.3 Valores de la Universidad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3 Postulados de la carrera (congruentes con los de la Universidad)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3.1 Misión de la Carrera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1" lang="es-ES" sz="2400" spc="-1" strike="noStrike">
                <a:solidFill>
                  <a:srgbClr val="ffffff"/>
                </a:solidFill>
                <a:latin typeface="Rockwell"/>
              </a:rPr>
              <a:t>2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.3.2 Visión de la Carrera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3.3 Valores de la Carrera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4 Historia de la carrera (antecedentes de la misma, cuando se inició, modificaciones, etc.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Rockwell"/>
              </a:rPr>
              <a:t>2.5 Proyectos universitarios complementario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¿</a:t>
            </a:r>
            <a:r>
              <a:rPr b="1" lang="es-ES" sz="3600" spc="-1" strike="noStrike">
                <a:solidFill>
                  <a:srgbClr val="cbe1e7"/>
                </a:solidFill>
                <a:latin typeface="Rockwell"/>
              </a:rPr>
              <a:t>CON CÚAL PROCEDIMIENTO METODOLÓGICO HAGO EL DIAGNÓSTICO</a:t>
            </a:r>
            <a:r>
              <a:rPr b="1" lang="es-ES" sz="3600" spc="-1" strike="noStrike">
                <a:solidFill>
                  <a:srgbClr val="ffffff"/>
                </a:solidFill>
                <a:latin typeface="Rockwel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401320" cy="12495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Rockwell"/>
              </a:rPr>
              <a:t>PARA HACER EL DIAGNÓSTICO: 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ffff"/>
                </a:solidFill>
                <a:latin typeface="Rockwell"/>
              </a:rPr>
              <a:t>¿CUANTIFICO?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ffff"/>
                </a:solidFill>
                <a:latin typeface="Rockwell"/>
              </a:rPr>
              <a:t>¿CUALIFICO?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ffff"/>
                </a:solidFill>
                <a:latin typeface="Rockwell"/>
              </a:rPr>
              <a:t>O 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es-CR" sz="3600" spc="-1" strike="noStrike">
                <a:solidFill>
                  <a:srgbClr val="ffffff"/>
                </a:solidFill>
                <a:latin typeface="Rockwell"/>
              </a:rPr>
              <a:t>¿HAGO UNA CONJUNCIÓN DE  LOS DOS?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f0f2d8"/>
              </a:solidFill>
              <a:latin typeface="Rockwel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ENFOQU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METODOLÓGICO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SOCIAL  CUANTITATIVO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Uso del método científico (ciencias exactas y naturales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1 Título" descr=""/>
          <p:cNvPicPr/>
          <p:nvPr/>
        </p:nvPicPr>
        <p:blipFill>
          <a:blip r:embed="rId1"/>
          <a:stretch/>
        </p:blipFill>
        <p:spPr>
          <a:xfrm>
            <a:off x="493560" y="365040"/>
            <a:ext cx="8448840" cy="10429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919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ffff"/>
                </a:solidFill>
                <a:latin typeface="Rockwell"/>
                <a:ea typeface="Arial"/>
              </a:rPr>
              <a:t>1.¿Quiero conocer un hecho social manipulándolo?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c000"/>
                </a:solidFill>
                <a:latin typeface="Rockwell"/>
                <a:ea typeface="Arial"/>
              </a:rPr>
              <a:t>USO EL MÉTODO EXPERIMENTAL</a:t>
            </a:r>
            <a:r>
              <a:rPr b="1" lang="es-CR" sz="3000" spc="-1" strike="noStrike">
                <a:solidFill>
                  <a:srgbClr val="ffffff"/>
                </a:solidFill>
                <a:latin typeface="Rockwell"/>
                <a:ea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ffff"/>
                </a:solidFill>
                <a:latin typeface="Rockwell"/>
                <a:ea typeface="Arial"/>
              </a:rPr>
              <a:t>2. ¿Quiero conocer un hecho social mediante la asociación de varios hechos sociales?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c000"/>
                </a:solidFill>
                <a:latin typeface="Rockwell"/>
                <a:ea typeface="Arial"/>
              </a:rPr>
              <a:t>USO EL MÉTODO CORRELACIONAL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ffff"/>
                </a:solidFill>
                <a:latin typeface="Rockwell"/>
                <a:ea typeface="Arial"/>
              </a:rPr>
              <a:t>3. ¿Quiero conocer un hecho social describiendo sus características?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c000"/>
                </a:solidFill>
                <a:latin typeface="Rockwell"/>
                <a:ea typeface="Arial"/>
              </a:rPr>
              <a:t> </a:t>
            </a:r>
            <a:r>
              <a:rPr b="1" lang="es-CR" sz="3000" spc="-1" strike="noStrike">
                <a:solidFill>
                  <a:srgbClr val="ffc000"/>
                </a:solidFill>
                <a:latin typeface="Rockwell"/>
                <a:ea typeface="Arial"/>
              </a:rPr>
              <a:t>USO EL MÉTODO DESCRIPTIVO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1 Elipse"/>
          <p:cNvSpPr/>
          <p:nvPr/>
        </p:nvSpPr>
        <p:spPr>
          <a:xfrm>
            <a:off x="1500120" y="2000160"/>
            <a:ext cx="2143080" cy="107172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Rockwell"/>
              </a:rPr>
              <a:t>1.DIAGNÓST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2 Elipse"/>
          <p:cNvSpPr/>
          <p:nvPr/>
        </p:nvSpPr>
        <p:spPr>
          <a:xfrm>
            <a:off x="6215040" y="3643200"/>
            <a:ext cx="1785960" cy="107172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Rockwell"/>
              </a:rPr>
              <a:t>3.GEST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5 Marco"/>
          <p:cNvSpPr/>
          <p:nvPr/>
        </p:nvSpPr>
        <p:spPr>
          <a:xfrm>
            <a:off x="714240" y="428760"/>
            <a:ext cx="8072640" cy="5929200"/>
          </a:xfrm>
          <a:prstGeom prst="pi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6 CuadroTexto"/>
          <p:cNvSpPr/>
          <p:nvPr/>
        </p:nvSpPr>
        <p:spPr>
          <a:xfrm>
            <a:off x="2357280" y="6429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rbel"/>
              </a:rPr>
              <a:t>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Corbe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13 Flecha arriba y abajo"/>
          <p:cNvSpPr/>
          <p:nvPr/>
        </p:nvSpPr>
        <p:spPr>
          <a:xfrm>
            <a:off x="2428920" y="1214280"/>
            <a:ext cx="357120" cy="714600"/>
          </a:xfrm>
          <a:prstGeom prst="upDownArrow">
            <a:avLst>
              <a:gd name="adj1" fmla="val 50000"/>
              <a:gd name="adj2" fmla="val 50025"/>
            </a:avLst>
          </a:prstGeom>
          <a:solidFill>
            <a:srgbClr val="b0ccb0"/>
          </a:solidFill>
          <a:ln w="38160">
            <a:solidFill>
              <a:srgbClr val="80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14 Flecha arriba y abajo"/>
          <p:cNvSpPr/>
          <p:nvPr/>
        </p:nvSpPr>
        <p:spPr>
          <a:xfrm flipH="1">
            <a:off x="7215120" y="1214280"/>
            <a:ext cx="311040" cy="2357640"/>
          </a:xfrm>
          <a:prstGeom prst="upDownArrow">
            <a:avLst>
              <a:gd name="adj1" fmla="val 50000"/>
              <a:gd name="adj2" fmla="val 50006"/>
            </a:avLst>
          </a:prstGeom>
          <a:solidFill>
            <a:srgbClr val="b0ccb0"/>
          </a:solidFill>
          <a:ln w="38160">
            <a:solidFill>
              <a:srgbClr val="80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15 Flecha arriba y abajo"/>
          <p:cNvSpPr/>
          <p:nvPr/>
        </p:nvSpPr>
        <p:spPr>
          <a:xfrm>
            <a:off x="2286000" y="3143160"/>
            <a:ext cx="500040" cy="2428920"/>
          </a:xfrm>
          <a:prstGeom prst="upDownArrow">
            <a:avLst>
              <a:gd name="adj1" fmla="val 50000"/>
              <a:gd name="adj2" fmla="val 50014"/>
            </a:avLst>
          </a:prstGeom>
          <a:solidFill>
            <a:srgbClr val="b0ccb0"/>
          </a:solidFill>
          <a:ln w="38160">
            <a:solidFill>
              <a:srgbClr val="80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16 Flecha arriba y abajo"/>
          <p:cNvSpPr/>
          <p:nvPr/>
        </p:nvSpPr>
        <p:spPr>
          <a:xfrm>
            <a:off x="6929280" y="4786200"/>
            <a:ext cx="428760" cy="785880"/>
          </a:xfrm>
          <a:prstGeom prst="upDownArrow">
            <a:avLst>
              <a:gd name="adj1" fmla="val 50000"/>
              <a:gd name="adj2" fmla="val 49989"/>
            </a:avLst>
          </a:prstGeom>
          <a:solidFill>
            <a:srgbClr val="b0ccb0"/>
          </a:solidFill>
          <a:ln w="38160">
            <a:solidFill>
              <a:srgbClr val="80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17 CuadroTexto"/>
          <p:cNvSpPr/>
          <p:nvPr/>
        </p:nvSpPr>
        <p:spPr>
          <a:xfrm>
            <a:off x="2428920" y="578628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rbe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10 Elipse"/>
          <p:cNvSpPr/>
          <p:nvPr/>
        </p:nvSpPr>
        <p:spPr>
          <a:xfrm>
            <a:off x="3714840" y="2857680"/>
            <a:ext cx="2428920" cy="121428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Rockwell"/>
              </a:rPr>
              <a:t>2.PROGRAMACIÓN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11 CuadroTexto"/>
          <p:cNvSpPr/>
          <p:nvPr/>
        </p:nvSpPr>
        <p:spPr>
          <a:xfrm>
            <a:off x="8286840" y="1571760"/>
            <a:ext cx="35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E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12 CuadroTexto"/>
          <p:cNvSpPr/>
          <p:nvPr/>
        </p:nvSpPr>
        <p:spPr>
          <a:xfrm>
            <a:off x="785880" y="1643040"/>
            <a:ext cx="50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17 Flecha arriba y abajo"/>
          <p:cNvSpPr/>
          <p:nvPr/>
        </p:nvSpPr>
        <p:spPr>
          <a:xfrm>
            <a:off x="4786200" y="1357200"/>
            <a:ext cx="500040" cy="1500480"/>
          </a:xfrm>
          <a:prstGeom prst="upDownArrow">
            <a:avLst>
              <a:gd name="adj1" fmla="val 50000"/>
              <a:gd name="adj2" fmla="val 50012"/>
            </a:avLst>
          </a:prstGeom>
          <a:solidFill>
            <a:srgbClr val="b0ccb0"/>
          </a:solidFill>
          <a:ln w="38160">
            <a:solidFill>
              <a:srgbClr val="80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18 Flecha arriba y abajo"/>
          <p:cNvSpPr/>
          <p:nvPr/>
        </p:nvSpPr>
        <p:spPr>
          <a:xfrm>
            <a:off x="4643280" y="4214880"/>
            <a:ext cx="642960" cy="1357200"/>
          </a:xfrm>
          <a:prstGeom prst="upDownArrow">
            <a:avLst>
              <a:gd name="adj1" fmla="val 50000"/>
              <a:gd name="adj2" fmla="val 49996"/>
            </a:avLst>
          </a:prstGeom>
          <a:solidFill>
            <a:srgbClr val="b0ccb0"/>
          </a:solidFill>
          <a:ln w="38160">
            <a:solidFill>
              <a:srgbClr val="80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20 Rayo"/>
          <p:cNvSpPr/>
          <p:nvPr/>
        </p:nvSpPr>
        <p:spPr>
          <a:xfrm>
            <a:off x="3143160" y="2571840"/>
            <a:ext cx="928800" cy="500040"/>
          </a:xfrm>
          <a:prstGeom prst="lightningBolt">
            <a:avLst/>
          </a:prstGeom>
          <a:solidFill>
            <a:srgbClr val="b0ccb0"/>
          </a:solidFill>
          <a:ln w="38160">
            <a:solidFill>
              <a:srgbClr val="80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21 Rayo"/>
          <p:cNvSpPr/>
          <p:nvPr/>
        </p:nvSpPr>
        <p:spPr>
          <a:xfrm>
            <a:off x="5429160" y="3571920"/>
            <a:ext cx="928800" cy="357120"/>
          </a:xfrm>
          <a:prstGeom prst="lightningBolt">
            <a:avLst/>
          </a:prstGeom>
          <a:solidFill>
            <a:srgbClr val="b0ccb0"/>
          </a:solidFill>
          <a:ln w="38160">
            <a:solidFill>
              <a:srgbClr val="80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1 Título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517240" cy="11826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4" name="3 Elipse"/>
          <p:cNvSpPr/>
          <p:nvPr/>
        </p:nvSpPr>
        <p:spPr>
          <a:xfrm>
            <a:off x="285840" y="2000160"/>
            <a:ext cx="2857320" cy="164304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OBSERV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DIREC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5 Elipse"/>
          <p:cNvSpPr/>
          <p:nvPr/>
        </p:nvSpPr>
        <p:spPr>
          <a:xfrm>
            <a:off x="214200" y="4214880"/>
            <a:ext cx="2857680" cy="164304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OBSERV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INDIRECT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8 Rectángulo"/>
          <p:cNvSpPr/>
          <p:nvPr/>
        </p:nvSpPr>
        <p:spPr>
          <a:xfrm>
            <a:off x="4429080" y="4643280"/>
            <a:ext cx="2571840" cy="57168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OBSERVACION DOCUM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9 Rectángulo"/>
          <p:cNvSpPr/>
          <p:nvPr/>
        </p:nvSpPr>
        <p:spPr>
          <a:xfrm>
            <a:off x="4500720" y="5643720"/>
            <a:ext cx="2357280" cy="6429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ENCUEST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10 Rectángulo"/>
          <p:cNvSpPr/>
          <p:nvPr/>
        </p:nvSpPr>
        <p:spPr>
          <a:xfrm>
            <a:off x="4572000" y="3643200"/>
            <a:ext cx="2428920" cy="57168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OBSERVACION SISTEMA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11 Rectángulo"/>
          <p:cNvSpPr/>
          <p:nvPr/>
        </p:nvSpPr>
        <p:spPr>
          <a:xfrm>
            <a:off x="4500720" y="2071800"/>
            <a:ext cx="2357280" cy="8571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OBSERVACION EXPERIM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0" name="13 Conector recto de flecha"/>
          <p:cNvCxnSpPr>
            <a:stCxn id="454" idx="6"/>
          </p:cNvCxnSpPr>
          <p:nvPr/>
        </p:nvCxnSpPr>
        <p:spPr>
          <a:xfrm flipV="1">
            <a:off x="3142800" y="2571480"/>
            <a:ext cx="1358280" cy="249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1" name="15 Conector recto de flecha"/>
          <p:cNvCxnSpPr/>
          <p:nvPr/>
        </p:nvCxnSpPr>
        <p:spPr>
          <a:xfrm>
            <a:off x="3071520" y="3143160"/>
            <a:ext cx="1500840" cy="5724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2" name="17 Conector recto de flecha"/>
          <p:cNvCxnSpPr/>
          <p:nvPr/>
        </p:nvCxnSpPr>
        <p:spPr>
          <a:xfrm flipV="1">
            <a:off x="2999880" y="4714200"/>
            <a:ext cx="1358280" cy="1436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3" name="21 Conector recto de flecha"/>
          <p:cNvCxnSpPr>
            <a:stCxn id="455" idx="5"/>
          </p:cNvCxnSpPr>
          <p:nvPr/>
        </p:nvCxnSpPr>
        <p:spPr>
          <a:xfrm>
            <a:off x="2652840" y="5616360"/>
            <a:ext cx="1776960" cy="384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4" name="14 Rectángulo"/>
          <p:cNvSpPr/>
          <p:nvPr/>
        </p:nvSpPr>
        <p:spPr>
          <a:xfrm>
            <a:off x="7358040" y="2643120"/>
            <a:ext cx="1785960" cy="242892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Rockwell"/>
              </a:rPr>
              <a:t>INSTRUMENTO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Rockwell"/>
              </a:rPr>
              <a:t>Cuestionar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Rockwell"/>
              </a:rPr>
              <a:t>Te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Rockwell"/>
              </a:rPr>
              <a:t>pruebas objetiv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Rockwell"/>
              </a:rPr>
              <a:t>guía 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18 Conector recto"/>
          <p:cNvSpPr/>
          <p:nvPr/>
        </p:nvSpPr>
        <p:spPr>
          <a:xfrm>
            <a:off x="6929280" y="2286000"/>
            <a:ext cx="7858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20 Conector recto"/>
          <p:cNvSpPr/>
          <p:nvPr/>
        </p:nvSpPr>
        <p:spPr>
          <a:xfrm>
            <a:off x="6929280" y="6000840"/>
            <a:ext cx="12146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7" name="23 Conector recto de flecha"/>
          <p:cNvCxnSpPr/>
          <p:nvPr/>
        </p:nvCxnSpPr>
        <p:spPr>
          <a:xfrm flipH="1">
            <a:off x="7714440" y="2286000"/>
            <a:ext cx="2520" cy="357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8" name="25 Conector recto de flecha"/>
          <p:cNvCxnSpPr/>
          <p:nvPr/>
        </p:nvCxnSpPr>
        <p:spPr>
          <a:xfrm flipV="1">
            <a:off x="8071200" y="5073120"/>
            <a:ext cx="2520" cy="929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9" name="27 Conector recto de flecha"/>
          <p:cNvCxnSpPr>
            <a:stCxn id="458" idx="3"/>
          </p:cNvCxnSpPr>
          <p:nvPr/>
        </p:nvCxnSpPr>
        <p:spPr>
          <a:xfrm>
            <a:off x="7000560" y="3928680"/>
            <a:ext cx="50076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29 Conector recto de flecha"/>
          <p:cNvCxnSpPr/>
          <p:nvPr/>
        </p:nvCxnSpPr>
        <p:spPr>
          <a:xfrm>
            <a:off x="7000560" y="4857840"/>
            <a:ext cx="429480" cy="2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f0f2d8"/>
              </a:solidFill>
              <a:latin typeface="Rockwel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ENFOQU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METODOLÓGICO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SOCIA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 </a:t>
            </a: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CUALITATIVO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600" spc="-1" strike="noStrike">
                <a:solidFill>
                  <a:srgbClr val="ffffff"/>
                </a:solidFill>
                <a:latin typeface="Verdana"/>
                <a:ea typeface="Verdana"/>
              </a:rPr>
              <a:t>uso de otros métodos igual de científicos: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600" spc="-1" strike="noStrike">
                <a:solidFill>
                  <a:srgbClr val="ffffff"/>
                </a:solidFill>
                <a:latin typeface="Verdana"/>
                <a:ea typeface="Verdana"/>
              </a:rPr>
              <a:t>etnográfico, fenomenológico, hermenéutico dialéctico, , investigación acción, entre otros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345520" cy="11527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500" spc="-1" strike="noStrike">
                <a:solidFill>
                  <a:srgbClr val="ffffff"/>
                </a:solidFill>
                <a:latin typeface="Rockwell"/>
                <a:ea typeface="Arial"/>
              </a:rPr>
              <a:t>1.¿Quiero conocer el modo de vida  de  un grupo humano?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500" spc="-1" strike="noStrike">
                <a:solidFill>
                  <a:srgbClr val="ffc000"/>
                </a:solidFill>
                <a:latin typeface="Rockwell"/>
                <a:ea typeface="Arial"/>
              </a:rPr>
              <a:t>USO EL MÉTODO ETNOGRÁFICO</a:t>
            </a:r>
            <a:r>
              <a:rPr b="1" lang="es-CR" sz="2500" spc="-1" strike="noStrike">
                <a:solidFill>
                  <a:srgbClr val="ffffff"/>
                </a:solidFill>
                <a:latin typeface="Rockwell"/>
                <a:ea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500" spc="-1" strike="noStrike">
                <a:solidFill>
                  <a:srgbClr val="ffffff"/>
                </a:solidFill>
                <a:latin typeface="Rockwell"/>
                <a:ea typeface="Arial"/>
              </a:rPr>
              <a:t>2. ¿Quiero conocer las vivencias de las personas sobre un hecho social?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500" spc="-1" strike="noStrike">
                <a:solidFill>
                  <a:srgbClr val="ffc000"/>
                </a:solidFill>
                <a:latin typeface="Rockwell"/>
                <a:ea typeface="Arial"/>
              </a:rPr>
              <a:t>USO EL MÉTODO FENOMENOLÓGICO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500" spc="-1" strike="noStrike">
                <a:solidFill>
                  <a:srgbClr val="ffffff"/>
                </a:solidFill>
                <a:latin typeface="Rockwell"/>
                <a:ea typeface="Arial"/>
              </a:rPr>
              <a:t>3. ¿Quiero interpretar los significados y las acciones de las personas sobre un hecho social?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500" spc="-1" strike="noStrike">
                <a:solidFill>
                  <a:srgbClr val="ffc000"/>
                </a:solidFill>
                <a:latin typeface="Rockwell"/>
                <a:ea typeface="Arial"/>
              </a:rPr>
              <a:t> </a:t>
            </a:r>
            <a:r>
              <a:rPr b="1" lang="es-CR" sz="2500" spc="-1" strike="noStrike">
                <a:solidFill>
                  <a:srgbClr val="ffc000"/>
                </a:solidFill>
                <a:latin typeface="Rockwell"/>
                <a:ea typeface="Arial"/>
              </a:rPr>
              <a:t>USO EL MÉTODO HERMENÉUTICO DIALÉCTICO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500" spc="-1" strike="noStrike">
                <a:solidFill>
                  <a:srgbClr val="ffffff"/>
                </a:solidFill>
                <a:latin typeface="Rockwell"/>
                <a:ea typeface="Arial"/>
              </a:rPr>
              <a:t>4.Quiero transformar el hecho social?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200" spc="-1" strike="noStrike">
                <a:solidFill>
                  <a:srgbClr val="ffc000"/>
                </a:solidFill>
                <a:latin typeface="Rockwell"/>
                <a:ea typeface="Arial"/>
              </a:rPr>
              <a:t>USO EL MÉTODO INVESTIGACIÓN ACCION 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7" name="3 Elipse"/>
          <p:cNvSpPr/>
          <p:nvPr/>
        </p:nvSpPr>
        <p:spPr>
          <a:xfrm>
            <a:off x="2786040" y="1500120"/>
            <a:ext cx="3143160" cy="178596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OBSERV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PARTICIPA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4 Elipse"/>
          <p:cNvSpPr/>
          <p:nvPr/>
        </p:nvSpPr>
        <p:spPr>
          <a:xfrm>
            <a:off x="5643720" y="2928960"/>
            <a:ext cx="3286080" cy="221472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ENTREVIS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NO ESTRUCTUR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5 Elipse"/>
          <p:cNvSpPr/>
          <p:nvPr/>
        </p:nvSpPr>
        <p:spPr>
          <a:xfrm>
            <a:off x="214200" y="3429000"/>
            <a:ext cx="3143520" cy="164304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OBSERVACIÓN DOCUM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6 Elipse"/>
          <p:cNvSpPr/>
          <p:nvPr/>
        </p:nvSpPr>
        <p:spPr>
          <a:xfrm>
            <a:off x="3214800" y="5072040"/>
            <a:ext cx="2857320" cy="157176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GRUPO DE DISCUSIÓN O F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7 Flecha cuádruple"/>
          <p:cNvSpPr/>
          <p:nvPr/>
        </p:nvSpPr>
        <p:spPr>
          <a:xfrm>
            <a:off x="2857680" y="2786040"/>
            <a:ext cx="3071520" cy="2643120"/>
          </a:xfrm>
          <a:prstGeom prst="pie">
            <a:avLst/>
          </a:prstGeom>
          <a:solidFill>
            <a:srgbClr val="a8cdd7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INSTRUMENT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GUÍ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600" spc="-1" strike="noStrike">
                <a:solidFill>
                  <a:srgbClr val="ffc000"/>
                </a:solidFill>
                <a:latin typeface="Rockwell"/>
                <a:ea typeface="Verdana"/>
              </a:rPr>
              <a:t>ENFOQUE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600" spc="-1" strike="noStrike">
                <a:solidFill>
                  <a:srgbClr val="ffc000"/>
                </a:solidFill>
                <a:latin typeface="Rockwell"/>
                <a:ea typeface="Verdana"/>
              </a:rPr>
              <a:t>METODOLÓGICO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600" spc="-1" strike="noStrike">
                <a:solidFill>
                  <a:srgbClr val="ffc000"/>
                </a:solidFill>
                <a:latin typeface="Rockwell"/>
                <a:ea typeface="Verdana"/>
              </a:rPr>
              <a:t>SOCIA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Rockwell"/>
              </a:rPr>
              <a:t>                                       </a:t>
            </a:r>
            <a:r>
              <a:rPr b="1" lang="es-ES" sz="3600" spc="-1" strike="noStrike">
                <a:solidFill>
                  <a:srgbClr val="ffc000"/>
                </a:solidFill>
                <a:latin typeface="Rockwell"/>
              </a:rPr>
              <a:t>MIXTO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1" lang="es-ES" sz="3200" spc="-1" strike="noStrike">
                <a:solidFill>
                  <a:srgbClr val="ffffff"/>
                </a:solidFill>
                <a:latin typeface="Rockwell"/>
              </a:rPr>
              <a:t>USO DE DOS MÉTODOS :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1" lang="es-ES" sz="3200" spc="-1" strike="noStrike">
                <a:solidFill>
                  <a:srgbClr val="ffffff"/>
                </a:solidFill>
                <a:latin typeface="Rockwell"/>
              </a:rPr>
              <a:t>UNO CUALITATIVO Y OTRO    CUANTITATIVO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345520" cy="1152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914400" y="1571760"/>
            <a:ext cx="77724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200" spc="-1" strike="noStrike">
                <a:solidFill>
                  <a:srgbClr val="ffffff"/>
                </a:solidFill>
                <a:latin typeface="Rockwell"/>
                <a:ea typeface="Arial"/>
              </a:rPr>
              <a:t>1.¿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  <a:ea typeface="Arial"/>
              </a:rPr>
              <a:t>Quiero conocer  “ las dos caras de la moneda”?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c000"/>
                </a:solidFill>
                <a:latin typeface="Rockwell"/>
                <a:ea typeface="Arial"/>
              </a:rPr>
              <a:t>   </a:t>
            </a:r>
            <a:r>
              <a:rPr b="1" lang="es-CR" sz="2400" spc="-1" strike="noStrike">
                <a:solidFill>
                  <a:srgbClr val="ffc000"/>
                </a:solidFill>
                <a:latin typeface="Rockwell"/>
                <a:ea typeface="Arial"/>
              </a:rPr>
              <a:t>USO EL  DISEÑO  INTEGRAL COMPLEMENTARIO (DICO)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  <a:ea typeface="Arial"/>
              </a:rPr>
              <a:t>2. ¿Quiero conocer  UN HECHO SOCIAL  INTEGRANDO SUS CUALIDADES CUALITATIVAS Y CUANTITATIVAS?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c000"/>
                </a:solidFill>
                <a:latin typeface="Rockwell"/>
                <a:ea typeface="Arial"/>
              </a:rPr>
              <a:t>    </a:t>
            </a:r>
            <a:r>
              <a:rPr b="1" lang="es-CR" sz="2400" spc="-1" strike="noStrike">
                <a:solidFill>
                  <a:srgbClr val="ffc000"/>
                </a:solidFill>
                <a:latin typeface="Rockwell"/>
                <a:ea typeface="Arial"/>
              </a:rPr>
              <a:t>USO EL DISEÑO  INTEGRAL TRIANGULADO (DITRI)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  <a:ea typeface="Arial"/>
              </a:rPr>
              <a:t>3. ¿Quiero conocer un hecho social  transformando datos cualitativos en cuantitativos o viceversa ?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c000"/>
                </a:solidFill>
                <a:latin typeface="Rockwell"/>
                <a:ea typeface="Arial"/>
              </a:rPr>
              <a:t>    </a:t>
            </a:r>
            <a:r>
              <a:rPr b="1" lang="es-CR" sz="2400" spc="-1" strike="noStrike">
                <a:solidFill>
                  <a:srgbClr val="ffc000"/>
                </a:solidFill>
                <a:latin typeface="Rockwell"/>
                <a:ea typeface="Arial"/>
              </a:rPr>
              <a:t>USO EL DISEÑO  INTEGRAL TRASFORMADO  (DITRA)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357120" y="1143000"/>
            <a:ext cx="8786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 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                                                              </a:t>
            </a: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MÉTODO A + MÉTODO B      RESULTADOS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DISEÑO INTEGRAL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COMPLEMENTARIO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  </a:t>
            </a:r>
            <a:r>
              <a:rPr b="1" lang="es-ES" sz="1700" spc="-1" strike="noStrike">
                <a:solidFill>
                  <a:srgbClr val="ffc000"/>
                </a:solidFill>
                <a:latin typeface="Rockwell"/>
              </a:rPr>
              <a:t>(DICO) </a:t>
            </a: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                                              +      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Rockwell"/>
              </a:rPr>
              <a:t>                                                                                        </a:t>
            </a:r>
            <a:r>
              <a:rPr b="1" lang="es-ES" sz="1200" spc="-1" strike="noStrike">
                <a:solidFill>
                  <a:srgbClr val="ffffff"/>
                </a:solidFill>
                <a:latin typeface="Rockwell"/>
              </a:rPr>
              <a:t>ESTRATEGIA  DE COMBINACIÓN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Rockwel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Rockwell"/>
              </a:rPr>
              <a:t>                  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DISEÑO INTEGRAL       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TRIANGULADO            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c000"/>
                </a:solidFill>
                <a:latin typeface="Rockwell"/>
              </a:rPr>
              <a:t>(DITRI )                                  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Rockwel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                                                             </a:t>
            </a:r>
            <a:r>
              <a:rPr b="1" lang="es-ES" sz="1200" spc="-1" strike="noStrike">
                <a:solidFill>
                  <a:srgbClr val="ffffff"/>
                </a:solidFill>
                <a:latin typeface="Rockwell"/>
              </a:rPr>
              <a:t>ESTRATEGIA DE  TRIANGULACIÓN</a:t>
            </a: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                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DISEÑO INTEGRAL   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+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TRANSFORMADO       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c000"/>
                </a:solidFill>
                <a:latin typeface="Rockwell"/>
              </a:rPr>
              <a:t>(DITRA)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c000"/>
                </a:solidFill>
                <a:latin typeface="Rockwell"/>
              </a:rPr>
              <a:t>                                                           </a:t>
            </a:r>
            <a:r>
              <a:rPr b="1" lang="es-ES" sz="1200" spc="-1" strike="noStrike">
                <a:solidFill>
                  <a:srgbClr val="ffffff"/>
                </a:solidFill>
                <a:latin typeface="Rockwell"/>
              </a:rPr>
              <a:t>ESTRATEGIA  DE TRANSFORMACIÓN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8" name="3 Elipse"/>
          <p:cNvSpPr/>
          <p:nvPr/>
        </p:nvSpPr>
        <p:spPr>
          <a:xfrm>
            <a:off x="3643200" y="5000760"/>
            <a:ext cx="1000080" cy="928440"/>
          </a:xfrm>
          <a:prstGeom prst="ellipse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4 Elipse"/>
          <p:cNvSpPr/>
          <p:nvPr/>
        </p:nvSpPr>
        <p:spPr>
          <a:xfrm>
            <a:off x="7286760" y="3071880"/>
            <a:ext cx="1214280" cy="1143000"/>
          </a:xfrm>
          <a:prstGeom prst="ellipse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5 Elipse"/>
          <p:cNvSpPr/>
          <p:nvPr/>
        </p:nvSpPr>
        <p:spPr>
          <a:xfrm>
            <a:off x="3714840" y="3143160"/>
            <a:ext cx="928440" cy="928800"/>
          </a:xfrm>
          <a:prstGeom prst="ellipse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6 Elipse"/>
          <p:cNvSpPr/>
          <p:nvPr/>
        </p:nvSpPr>
        <p:spPr>
          <a:xfrm>
            <a:off x="3714840" y="1643040"/>
            <a:ext cx="1071360" cy="928800"/>
          </a:xfrm>
          <a:prstGeom prst="ellipse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10 Estrella de 5 puntas"/>
          <p:cNvSpPr/>
          <p:nvPr/>
        </p:nvSpPr>
        <p:spPr>
          <a:xfrm>
            <a:off x="5572080" y="1643040"/>
            <a:ext cx="1000080" cy="928800"/>
          </a:xfrm>
          <a:prstGeom prst="pie">
            <a:avLst/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12 Elipse"/>
          <p:cNvSpPr/>
          <p:nvPr/>
        </p:nvSpPr>
        <p:spPr>
          <a:xfrm>
            <a:off x="6858000" y="1714680"/>
            <a:ext cx="928800" cy="857160"/>
          </a:xfrm>
          <a:prstGeom prst="ellipse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13 Estrella de 5 puntas"/>
          <p:cNvSpPr/>
          <p:nvPr/>
        </p:nvSpPr>
        <p:spPr>
          <a:xfrm>
            <a:off x="8001000" y="1643040"/>
            <a:ext cx="1143000" cy="785880"/>
          </a:xfrm>
          <a:prstGeom prst="pie">
            <a:avLst/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14 Estrella de 5 puntas"/>
          <p:cNvSpPr/>
          <p:nvPr/>
        </p:nvSpPr>
        <p:spPr>
          <a:xfrm>
            <a:off x="5572080" y="3071880"/>
            <a:ext cx="1000080" cy="928800"/>
          </a:xfrm>
          <a:prstGeom prst="pie">
            <a:avLst/>
          </a:prstGeom>
          <a:solidFill>
            <a:srgbClr val="a8cdd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15 Estrella de 5 puntas"/>
          <p:cNvSpPr/>
          <p:nvPr/>
        </p:nvSpPr>
        <p:spPr>
          <a:xfrm>
            <a:off x="7358040" y="3143160"/>
            <a:ext cx="1071720" cy="785880"/>
          </a:xfrm>
          <a:prstGeom prst="pie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16 Estrella de 5 puntas"/>
          <p:cNvSpPr/>
          <p:nvPr/>
        </p:nvSpPr>
        <p:spPr>
          <a:xfrm>
            <a:off x="5286240" y="4929120"/>
            <a:ext cx="1357560" cy="928800"/>
          </a:xfrm>
          <a:prstGeom prst="pie">
            <a:avLst/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17 Estrella de 5 puntas"/>
          <p:cNvSpPr/>
          <p:nvPr/>
        </p:nvSpPr>
        <p:spPr>
          <a:xfrm>
            <a:off x="7358040" y="5000760"/>
            <a:ext cx="1285920" cy="100008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19 Conector recto"/>
          <p:cNvSpPr/>
          <p:nvPr/>
        </p:nvSpPr>
        <p:spPr>
          <a:xfrm>
            <a:off x="6643800" y="1571760"/>
            <a:ext cx="71280" cy="464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21 Conector recto"/>
          <p:cNvSpPr/>
          <p:nvPr/>
        </p:nvSpPr>
        <p:spPr>
          <a:xfrm>
            <a:off x="3571920" y="2928960"/>
            <a:ext cx="5357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23 Conector recto"/>
          <p:cNvSpPr/>
          <p:nvPr/>
        </p:nvSpPr>
        <p:spPr>
          <a:xfrm>
            <a:off x="3571920" y="4857840"/>
            <a:ext cx="5072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18 Más"/>
          <p:cNvSpPr/>
          <p:nvPr/>
        </p:nvSpPr>
        <p:spPr>
          <a:xfrm>
            <a:off x="5000760" y="2000160"/>
            <a:ext cx="285480" cy="357120"/>
          </a:xfrm>
          <a:prstGeom prst="pie">
            <a:avLst/>
          </a:prstGeom>
          <a:solidFill>
            <a:srgbClr val="ffffff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19 Más"/>
          <p:cNvSpPr/>
          <p:nvPr/>
        </p:nvSpPr>
        <p:spPr>
          <a:xfrm>
            <a:off x="5072040" y="3571920"/>
            <a:ext cx="285840" cy="357120"/>
          </a:xfrm>
          <a:prstGeom prst="pie">
            <a:avLst/>
          </a:prstGeom>
          <a:solidFill>
            <a:srgbClr val="ffffff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20 Más"/>
          <p:cNvSpPr/>
          <p:nvPr/>
        </p:nvSpPr>
        <p:spPr>
          <a:xfrm>
            <a:off x="7858080" y="2143080"/>
            <a:ext cx="285840" cy="357120"/>
          </a:xfrm>
          <a:prstGeom prst="pie">
            <a:avLst/>
          </a:prstGeom>
          <a:solidFill>
            <a:srgbClr val="ffffff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21 Más"/>
          <p:cNvSpPr/>
          <p:nvPr/>
        </p:nvSpPr>
        <p:spPr>
          <a:xfrm>
            <a:off x="4929120" y="5357880"/>
            <a:ext cx="357120" cy="428400"/>
          </a:xfrm>
          <a:prstGeom prst="pie">
            <a:avLst/>
          </a:prstGeom>
          <a:solidFill>
            <a:srgbClr val="ffffff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214200" y="258840"/>
          <a:ext cx="8929800" cy="5257800"/>
        </p:xfrm>
        <a:graphic>
          <a:graphicData uri="http://schemas.openxmlformats.org/drawingml/2006/table">
            <a:tbl>
              <a:tblPr/>
              <a:tblGrid>
                <a:gridCol w="2000520"/>
                <a:gridCol w="2786040"/>
                <a:gridCol w="414324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cbe1e7"/>
                          </a:solidFill>
                          <a:latin typeface="Rockwell"/>
                        </a:rPr>
                        <a:t>ETAPAS DEL DISEÑO CURRICULA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TAPA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be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TAPA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8cd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TAPA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6e2e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DIAGNÓS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PROGRAM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GEST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0ec"/>
                    </a:solidFill>
                  </a:tcPr>
                </a:tc>
              </a:tr>
              <a:tr h="371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XTER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NTER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1 Perfil ocupacion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2 Perfil  profesio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3 Competencias generales de la carre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4 Competencias específic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5 Áreas curriculares.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5.1 Área específica: (nombre de los cursos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5.2Área complement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(nombre de los cursos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5.3Ejes transversales: investigación, ética, entre otr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6 Estructura del plan de estud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7 Malla curricul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1 Requisitos de ingreso y criterios de admi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2 Requisitos de gradu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3 Título y grado que se otorg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4 Duración y créditos del programa (resumen).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5 Características del director (a) de carrer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6. Servicios de biblioteca,  laboratorio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8 Recursos de apoyo didáctico y de aprendizaje (Laboratorios, biblioteca, internet, equipo y otros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9 Tarifas de matrícula y costos de los cursos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10. Personal académi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64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1" lang="es-ES" sz="3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1" lang="es-ES" sz="3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VALUACIÓN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f0f2d8"/>
              </a:solidFill>
              <a:latin typeface="Rockwel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s-ES" sz="7200" spc="-1" strike="noStrike">
                <a:solidFill>
                  <a:srgbClr val="cbe1e7"/>
                </a:solidFill>
                <a:latin typeface="Rockwell"/>
              </a:rPr>
              <a:t>¿QUÉ ES UN DIAGNÓSTICO</a:t>
            </a:r>
            <a:r>
              <a:rPr b="0" lang="es-ES" sz="7200" spc="-1" strike="noStrike">
                <a:solidFill>
                  <a:srgbClr val="ffffff"/>
                </a:solidFill>
                <a:latin typeface="Rockwell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394840" cy="11588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C:\Users\Luis\Documents\CURRICULO HONDURAS\imagen 1.jpg"/>
          <p:cNvPicPr/>
          <p:nvPr/>
        </p:nvPicPr>
        <p:blipFill>
          <a:blip r:embed="rId2"/>
          <a:stretch/>
        </p:blipFill>
        <p:spPr>
          <a:xfrm>
            <a:off x="1554120" y="164628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1 Título" descr=""/>
          <p:cNvPicPr/>
          <p:nvPr/>
        </p:nvPicPr>
        <p:blipFill>
          <a:blip r:embed="rId1"/>
          <a:stretch/>
        </p:blipFill>
        <p:spPr>
          <a:xfrm>
            <a:off x="1365120" y="480960"/>
            <a:ext cx="8083800" cy="963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13716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Rockwell"/>
              </a:rPr>
              <a:t>Proviene del griego diagnostikós formado por el prefijo día (a través), y gnosis (conocimiento o apto para conocer). 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Rockwell"/>
              </a:rPr>
              <a:t>Análisis que se realiza para determinar  la situación  de una realidad social y cuáles son sus tendencias . 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Rockwell"/>
              </a:rPr>
              <a:t>Aporta   datos  de un hecho social  recogidos y ordenados sistemáticamente para conocer( externa e internamente) determinado  hecho  social . 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f0f2d8"/>
              </a:solidFill>
              <a:latin typeface="Rockwel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cbe1e7"/>
                </a:solidFill>
                <a:latin typeface="Rockwell"/>
              </a:rPr>
              <a:t>¿ QUÉ ES UN DIAGNÓSTICO CURRICULAR?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637840" cy="115884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Rockwell"/>
              </a:rPr>
              <a:t>Proceso que  nos permite conocer determinada  realidad social de un diseño curricular   (en  sus ámbitos  externo e interno)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f0f2d8"/>
              </a:solidFill>
              <a:latin typeface="Rockwel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91960">
              <a:buClr>
                <a:srgbClr val="72a37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Rockwell"/>
              </a:rPr>
              <a:t>¿CUÁL ES EL PROPÓSITO DEL DIAGNÓSTICO CURRICULAR?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2T13:39:12Z</dcterms:created>
  <dc:creator>Luis</dc:creator>
  <dc:description/>
  <dc:language>en-US</dc:language>
  <cp:lastModifiedBy>Luis</cp:lastModifiedBy>
  <dcterms:modified xsi:type="dcterms:W3CDTF">2018-03-18T16:26:18Z</dcterms:modified>
  <cp:revision>37</cp:revision>
  <dc:subject/>
  <dc:title>El diagnostico curricular</dc:title>
</cp:coreProperties>
</file>