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A4D3-A301-4017-93BF-7469E108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715E-8C74-4EC7-BFC0-76FD93D4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2B0877-3431-42F5-B9CF-54F70EA2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969ECC-3DD5-47C6-9572-344C0C26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24E0E1-B54F-4EE1-84DB-1531C4AC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6D505D-B710-4E83-A9B2-95F4B480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6A3C08-F9EA-4146-B5FD-EF45CFDB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9D7EFC-B486-4C5B-AEE3-24F17829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F467DC-9F91-4613-ABFB-CFCE7F17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A3ABB3-8A26-4A10-9DB5-E93FFD04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F90B97-233F-42C9-A129-2A0E7A23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97C7-8573-473B-A890-753922D1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EEC6-9EE3-490B-83BB-ABFC4548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D90B6-678F-488F-8D91-F11CEE44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1D3A8-5E68-4CEF-ADE3-255E33A6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AC417-56B8-479B-81CD-5A91903A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8E77B-5028-471A-8573-2A1AA4A3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1D81A-F1A7-46EE-BF1B-6B55C0AC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766FC-6AD9-4790-A0C2-B9EE713D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60C51-9E59-4BAA-9C33-732C4E1F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DA3A-0A4F-4484-87D0-BEB46013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38B4A-3915-4964-9AE0-EC2AE3A3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7683A-080C-4733-B44E-65C53150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E95A3-D84B-4CF2-AC93-8ABBCF65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646BA-378E-4BFC-91B6-9D51D44C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8B5B0-1289-4170-B3CF-534831C2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7C331-02BF-4C42-9E97-17E01B8E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36D7C-0373-4BAF-AACC-E8889628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70350-9B6D-403C-84F0-2488C9D6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33158-F794-44A4-BE13-709BAD7D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CD929-98A2-4B7F-9072-AC5FED1A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53F4-71D1-420D-8A45-19718616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6FE56-E0BB-4D94-8946-A6313E12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7527C-5F08-4529-A628-E0A389CF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DD1D6-B9DB-43C1-91E1-EED92ECA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7078A-5246-48B0-9E9F-235D27F7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25083-D546-42B2-AC9A-E60E748E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EF46D-D494-4459-B443-D5D0E399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3D482-470C-480E-8F71-459A521D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CA87CA-9774-4C45-A478-3A31396B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2FABA4-FE1F-43AE-9052-D1B2BE5F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DBF65B-E700-4F0B-9364-C6F96750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BB74-15D7-4115-8D91-844562C1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ECBD0D-1E5C-47DD-BA8C-705CB685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40E95E-9C5C-4255-97AB-88E5ED84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86516D-8873-4075-973B-DF533ECB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909483-E07D-4AB2-B772-6D062AE1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0E815D-3BE9-4166-8B00-845304D4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56704C-ADF7-4079-BCF5-811D7BDD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CE56C7-8317-4956-A2D8-8496F142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FAD99E-20B3-42AE-8844-D404FFDA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236E14-0558-40A0-BFD5-49929EF9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CB169-8465-4A75-9B55-6632BA17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E803-04A5-4B62-B013-516E0D7F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85581-50B8-49A0-BE40-D1F50526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9B731-8529-4905-9E83-69CA23F6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A95DC-C739-4100-BB61-72E9C505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A238A-6BB5-4E34-9DDE-1828B851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85FFC-492B-4B07-B5C7-B7B9A24E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B0698-9789-4AFF-A6AC-91D963B9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B69B2-8237-4867-B14D-246BD194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D9B11-3C63-4ABA-AFFA-2001E2F3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26447-724B-46F8-8808-9133696E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A5036-6E3A-4FC1-87B0-350421A7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7BF3-BA69-4A2B-9314-09E352AF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7154D-6C41-4C03-ADEC-4B042744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DFF76-3643-4EFF-8CD5-2569D64E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39BF2-D0F0-4536-A34C-83DF239A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8EC73-0864-407E-92F8-BC5C3D9D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6DE86-54D1-412E-B245-D0680657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65BDC-492D-415E-B354-795F51B6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459A4-80E0-4644-B190-AAC51B7B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A90C7-090A-4B77-9603-17A931D4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5321D-ACA9-44D4-A217-71B0217A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09243-6AA9-4114-A880-6FAD5B31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22A2-4723-4A61-A7BF-147B81F7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065F6-3984-4F85-9412-8C775843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C5738-7220-4CD4-B4B7-84D86400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2FA9D-75C6-4B55-82E6-BA4FE289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83645-1B59-493A-84AC-BF9281EB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50986-B885-425C-997D-A8ADF69E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72ACD-5DEE-425E-85C5-24638269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FF94A-7E3A-47C6-BBEE-0C9190B8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6CDD4-2B8E-44DE-8E35-2F21ED2C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54F7B-4F74-498A-ADBD-012DC01B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6E0CE-59C9-4D2C-A6EE-A1BE5A33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40E1-0579-4B9A-AB55-26906D30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77501-37CE-468F-AF1F-BA4D8949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CE02B-A2E8-4437-8035-120CF64E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1DAA4-1897-415D-9C0B-B8614EB8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8465B-ACF2-4904-80E0-FE0EDBA3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1A89F-FA5D-4333-9C7F-92E227A10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5479D5-1F3E-4799-9752-5DD885F0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D5B097-E7BF-48FB-839A-BFAA7794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1622C7-96DD-4980-8280-9C032F1D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7C0F57-C3AA-4222-B9CC-7B213863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D02DF1-289D-4265-8008-402532C5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F02A-C345-4359-BC17-0859FA99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931F71-5881-4546-8C88-FD5B6F4C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CA6BA5-F08F-47A3-8DE5-4D0E4430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F702C4-9BF6-4091-AAD6-E6483233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ED6548-008C-4192-A7D2-966F9A00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4D16FC-AA54-4E72-9747-CE15B522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3902C9-9A38-4D0C-9ABF-3F7BD337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E90050-0B04-4C7C-A555-81708AA2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36A63F-B84A-410F-BC7D-912BBAA8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3BE0C4-C428-4A34-A3AC-558E7328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F4EA6D-19C4-485A-B736-25892CE2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Redondear rectángulo de esquina diagonal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3CBB-5510-4834-A65D-A7FA246381BA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dondear rectángulo de esquina diagonal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7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F6C8-98B8-4818-A118-D268124C39A2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6 Redondear rectángulo de esquina diagonal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7 Rectángulo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5907-4406-466A-AEB8-196EAC407BBD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B6B5-76FD-4A56-B538-13CDEB200032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6 Redondear rectángulo de esquina diagonal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7 Rectángulo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1DC3-4C9C-4F16-8868-B5142F4B3CEB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6 Redondear rectángulo de esquina diagonal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7 Rectángulo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8 Rectángulo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0477-3FF9-4CE4-A26E-5AD336B154A5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6 Redondear rectángulo de esquina diagonal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6 Redondear rectángulo de esquina diagonal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7 Rectángulo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2148-A5AE-4D1D-BBCD-9E4FF50CFE27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7 Rectángulo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A1AA-699F-4FB1-934A-5A27A7D7DFF0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5E52-4DDB-4B41-AA3B-869DDC6A3DE2}" type="slidenum">
              <a:rPr b="0" lang="es-E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mailto:donricardo2006@hotmail.com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1 Título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381880" cy="22190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85880" y="350028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0f2d8"/>
                </a:solidFill>
                <a:latin typeface="Rockwell"/>
              </a:rPr>
              <a:t>Dr. Luis Ricardo Villalobos Zamora</a:t>
            </a:r>
            <a:br>
              <a:rPr sz="3200"/>
            </a:br>
            <a:r>
              <a:rPr b="0" lang="es-ES" sz="3200" spc="-1" strike="noStrike" u="sng">
                <a:solidFill>
                  <a:srgbClr val="db5353"/>
                </a:solidFill>
                <a:uFillTx/>
                <a:latin typeface="Rockwell"/>
                <a:hlinkClick r:id="rId2"/>
              </a:rPr>
              <a:t>donricardo2006@hotmail.com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Tel (+506 )8837 5773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1 Título" descr=""/>
          <p:cNvPicPr/>
          <p:nvPr/>
        </p:nvPicPr>
        <p:blipFill>
          <a:blip r:embed="rId1"/>
          <a:stretch/>
        </p:blipFill>
        <p:spPr>
          <a:xfrm>
            <a:off x="907920" y="506520"/>
            <a:ext cx="8444160" cy="9255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Aportar conocimiento para  el diseño de la programación ,  la gestión  y evaluación del diseño curricular  para responder a los requerimientos de una carrera determinada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f0f2d8"/>
              </a:solidFill>
              <a:latin typeface="Rockwell"/>
            </a:endParaRPr>
          </a:p>
        </p:txBody>
      </p:sp>
      <p:pic>
        <p:nvPicPr>
          <p:cNvPr id="428" name="Picture 2" descr="C:\Users\Luis\Documents\CURRICULO HONDURAS\imagen 3.jpg"/>
          <p:cNvPicPr/>
          <p:nvPr/>
        </p:nvPicPr>
        <p:blipFill>
          <a:blip r:embed="rId1"/>
          <a:stretch/>
        </p:blipFill>
        <p:spPr>
          <a:xfrm>
            <a:off x="428760" y="428760"/>
            <a:ext cx="857232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686800" cy="11653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3 Rectángulo"/>
          <p:cNvSpPr/>
          <p:nvPr/>
        </p:nvSpPr>
        <p:spPr>
          <a:xfrm>
            <a:off x="5286240" y="2143080"/>
            <a:ext cx="2857680" cy="92880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1.USANDO  SIEMPRE LA AUTOCRÍ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6 Rectángulo redondeado"/>
          <p:cNvSpPr/>
          <p:nvPr/>
        </p:nvSpPr>
        <p:spPr>
          <a:xfrm>
            <a:off x="5286240" y="3643200"/>
            <a:ext cx="2786040" cy="100008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2.COEVALUANDO EL TRABAJO REALIZADO POR EL  EQUIP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7 Rectángulo redondeado"/>
          <p:cNvSpPr/>
          <p:nvPr/>
        </p:nvSpPr>
        <p:spPr>
          <a:xfrm>
            <a:off x="5214960" y="5214960"/>
            <a:ext cx="2786040" cy="1357200"/>
          </a:xfrm>
          <a:prstGeom prst="roundRect">
            <a:avLst>
              <a:gd name="adj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3.OBTENIENDO  UNA  PERSPECTIVA HOLISTICA DEL HECHO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8 Sol"/>
          <p:cNvSpPr/>
          <p:nvPr/>
        </p:nvSpPr>
        <p:spPr>
          <a:xfrm>
            <a:off x="214200" y="2357280"/>
            <a:ext cx="4143600" cy="3357720"/>
          </a:xfrm>
          <a:prstGeom prst="sun">
            <a:avLst>
              <a:gd name="adj" fmla="val 25000"/>
            </a:avLst>
          </a:prstGeom>
          <a:solidFill>
            <a:srgbClr val="a8cdd7"/>
          </a:solidFill>
          <a:ln w="38160">
            <a:solidFill>
              <a:srgbClr val="7a96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FI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CONOCER UN HECHO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5" name="11 Conector recto de flecha"/>
          <p:cNvCxnSpPr>
            <a:endCxn id="431" idx="1"/>
          </p:cNvCxnSpPr>
          <p:nvPr/>
        </p:nvCxnSpPr>
        <p:spPr>
          <a:xfrm flipV="1">
            <a:off x="3929040" y="2606400"/>
            <a:ext cx="1357920" cy="286560"/>
          </a:xfrm>
          <a:prstGeom prst="straightConnector1">
            <a:avLst/>
          </a:prstGeom>
          <a:ln w="76320">
            <a:solidFill>
              <a:srgbClr val="b0ccb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36" name="14 Conector recto de flecha"/>
          <p:cNvCxnSpPr>
            <a:stCxn id="434" idx="3"/>
          </p:cNvCxnSpPr>
          <p:nvPr/>
        </p:nvCxnSpPr>
        <p:spPr>
          <a:xfrm flipV="1">
            <a:off x="4357440" y="3999960"/>
            <a:ext cx="929160" cy="37080"/>
          </a:xfrm>
          <a:prstGeom prst="straightConnector1">
            <a:avLst/>
          </a:prstGeom>
          <a:ln w="76320">
            <a:solidFill>
              <a:srgbClr val="9fb99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37" name="17 Conector recto de flecha"/>
          <p:cNvCxnSpPr/>
          <p:nvPr/>
        </p:nvCxnSpPr>
        <p:spPr>
          <a:xfrm>
            <a:off x="3857400" y="5285880"/>
            <a:ext cx="1215000" cy="358200"/>
          </a:xfrm>
          <a:prstGeom prst="straightConnector1">
            <a:avLst/>
          </a:prstGeom>
          <a:ln w="76320">
            <a:solidFill>
              <a:srgbClr val="9fb99f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748720" cy="11588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928800" y="1357200"/>
            <a:ext cx="777240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Conjunto de investigaciones proporcionan  el conocimiento para un diseño curricular determinado sobre  :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1. La justificación  de la carrera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     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1.1 ¿En qué consiste la carrera?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     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1.2 ¿Para qué sirve en nuestra sociedad ?    (Referentes universales y referentes nacionales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Las tendencias actuales de la disciplina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3.Otros diseños similares extranjeros y nacionales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4. Las demandas sociales  (contexto mundial y nacional )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5. Aspectos  conceptuales de la disciplina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57168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f0f2d8"/>
              </a:solidFill>
              <a:latin typeface="Rockwell"/>
            </a:endParaRPr>
          </a:p>
        </p:txBody>
      </p:sp>
      <p:pic>
        <p:nvPicPr>
          <p:cNvPr id="441" name="Picture 2" descr="C:\Users\Luis\Documents\CURRICULO HONDURAS\imagen 4.jpg"/>
          <p:cNvPicPr/>
          <p:nvPr/>
        </p:nvPicPr>
        <p:blipFill>
          <a:blip r:embed="rId1"/>
          <a:stretch/>
        </p:blipFill>
        <p:spPr>
          <a:xfrm>
            <a:off x="500040" y="571680"/>
            <a:ext cx="83581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1 Título" descr=""/>
          <p:cNvPicPr/>
          <p:nvPr/>
        </p:nvPicPr>
        <p:blipFill>
          <a:blip r:embed="rId1"/>
          <a:stretch/>
        </p:blipFill>
        <p:spPr>
          <a:xfrm>
            <a:off x="907920" y="208080"/>
            <a:ext cx="8143920" cy="12301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914400" y="1784520"/>
            <a:ext cx="7772400" cy="49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1.Historia de la Universidad y de la carrera 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Rockwell"/>
              </a:rPr>
              <a:t>2.2 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Postulados de la Universidad 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   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2.1 Misión de la Universidad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   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2.2 Visión de la Universidad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   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3.3 Valores de la Universidad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3 Postulados de la carrera (congruentes con los de la Universidad)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3.1 Misión de la Carrera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1" lang="es-ES" sz="2400" spc="-1" strike="noStrike">
                <a:solidFill>
                  <a:srgbClr val="ffffff"/>
                </a:solidFill>
                <a:latin typeface="Rockwell"/>
              </a:rPr>
              <a:t>2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.3.2 Visión de la Carrera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3.3 Valores de la Carrera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</a:rPr>
              <a:t>2.4 Historia de la carrera (antecedentes de la misma, cuando se inició, modificaciones, etc.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Rockwell"/>
              </a:rPr>
              <a:t>2.5 Proyectos universitarios complementario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¿</a:t>
            </a:r>
            <a:r>
              <a:rPr b="1" lang="es-ES" sz="3600" spc="-1" strike="noStrike">
                <a:solidFill>
                  <a:srgbClr val="cbe1e7"/>
                </a:solidFill>
                <a:latin typeface="Rockwell"/>
              </a:rPr>
              <a:t>CON CÚAL PROCEDIMIENTO METODOLÓGICO HAGO EL DIAGNÓSTICO</a:t>
            </a:r>
            <a:r>
              <a:rPr b="1" lang="es-ES" sz="3600" spc="-1" strike="noStrike">
                <a:solidFill>
                  <a:srgbClr val="ffffff"/>
                </a:solidFill>
                <a:latin typeface="Rockwel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401320" cy="12495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Rockwell"/>
              </a:rPr>
              <a:t>PARA HACER EL DIAGNÓSTICO: 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ffff"/>
                </a:solidFill>
                <a:latin typeface="Rockwell"/>
              </a:rPr>
              <a:t>¿CUANTIFICO?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ffff"/>
                </a:solidFill>
                <a:latin typeface="Rockwell"/>
              </a:rPr>
              <a:t>¿CUALIFICO?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ffff"/>
                </a:solidFill>
                <a:latin typeface="Rockwell"/>
              </a:rPr>
              <a:t>O 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es-CR" sz="3600" spc="-1" strike="noStrike">
                <a:solidFill>
                  <a:srgbClr val="ffffff"/>
                </a:solidFill>
                <a:latin typeface="Rockwell"/>
              </a:rPr>
              <a:t>¿HAGO UNA CONJUNCIÓN DE  LOS DOS?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f0f2d8"/>
              </a:solidFill>
              <a:latin typeface="Rockwel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ENFOQU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METODOLÓGICO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SOCIAL  CUANTITATIVO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Rockwell"/>
              </a:rPr>
              <a:t>Uso del método científico (ciencias exactas y naturales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1 Título" descr=""/>
          <p:cNvPicPr/>
          <p:nvPr/>
        </p:nvPicPr>
        <p:blipFill>
          <a:blip r:embed="rId1"/>
          <a:stretch/>
        </p:blipFill>
        <p:spPr>
          <a:xfrm>
            <a:off x="493560" y="365040"/>
            <a:ext cx="8448840" cy="10429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919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ffff"/>
                </a:solidFill>
                <a:latin typeface="Rockwell"/>
                <a:ea typeface="Arial"/>
              </a:rPr>
              <a:t>1.¿Quiero conocer un hecho social manipulándolo?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c000"/>
                </a:solidFill>
                <a:latin typeface="Rockwell"/>
                <a:ea typeface="Arial"/>
              </a:rPr>
              <a:t>USO EL MÉTODO EXPERIMENTAL</a:t>
            </a:r>
            <a:r>
              <a:rPr b="1" lang="es-CR" sz="3000" spc="-1" strike="noStrike">
                <a:solidFill>
                  <a:srgbClr val="ffffff"/>
                </a:solidFill>
                <a:latin typeface="Rockwell"/>
                <a:ea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ffff"/>
                </a:solidFill>
                <a:latin typeface="Rockwell"/>
                <a:ea typeface="Arial"/>
              </a:rPr>
              <a:t>2. ¿Quiero conocer un hecho social mediante la asociación de varios hechos sociales?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c000"/>
                </a:solidFill>
                <a:latin typeface="Rockwell"/>
                <a:ea typeface="Arial"/>
              </a:rPr>
              <a:t>USO EL MÉTODO CORRELACIONAL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ffff"/>
                </a:solidFill>
                <a:latin typeface="Rockwell"/>
                <a:ea typeface="Arial"/>
              </a:rPr>
              <a:t>3. ¿Quiero conocer un hecho social describiendo sus características?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000" spc="-1" strike="noStrike">
                <a:solidFill>
                  <a:srgbClr val="ffc000"/>
                </a:solidFill>
                <a:latin typeface="Rockwell"/>
                <a:ea typeface="Arial"/>
              </a:rPr>
              <a:t> </a:t>
            </a:r>
            <a:r>
              <a:rPr b="1" lang="es-CR" sz="3000" spc="-1" strike="noStrike">
                <a:solidFill>
                  <a:srgbClr val="ffc000"/>
                </a:solidFill>
                <a:latin typeface="Rockwell"/>
                <a:ea typeface="Arial"/>
              </a:rPr>
              <a:t>USO EL MÉTODO DESCRIPTIVO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1 Elipse"/>
          <p:cNvSpPr/>
          <p:nvPr/>
        </p:nvSpPr>
        <p:spPr>
          <a:xfrm>
            <a:off x="1500120" y="2000160"/>
            <a:ext cx="2143080" cy="107172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Rockwell"/>
              </a:rPr>
              <a:t>1.DIAGNÓST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2 Elipse"/>
          <p:cNvSpPr/>
          <p:nvPr/>
        </p:nvSpPr>
        <p:spPr>
          <a:xfrm>
            <a:off x="6215040" y="3643200"/>
            <a:ext cx="1785960" cy="107172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Rockwell"/>
              </a:rPr>
              <a:t>3.GEST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5 Marco"/>
          <p:cNvSpPr/>
          <p:nvPr/>
        </p:nvSpPr>
        <p:spPr>
          <a:xfrm>
            <a:off x="714240" y="428760"/>
            <a:ext cx="8072640" cy="5929200"/>
          </a:xfrm>
          <a:prstGeom prst="pi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6 CuadroTexto"/>
          <p:cNvSpPr/>
          <p:nvPr/>
        </p:nvSpPr>
        <p:spPr>
          <a:xfrm>
            <a:off x="2357280" y="6429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rbel"/>
              </a:rPr>
              <a:t>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Corbe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13 Flecha arriba y abajo"/>
          <p:cNvSpPr/>
          <p:nvPr/>
        </p:nvSpPr>
        <p:spPr>
          <a:xfrm>
            <a:off x="2428920" y="1214280"/>
            <a:ext cx="357120" cy="714600"/>
          </a:xfrm>
          <a:prstGeom prst="upDownArrow">
            <a:avLst>
              <a:gd name="adj1" fmla="val 50000"/>
              <a:gd name="adj2" fmla="val 50025"/>
            </a:avLst>
          </a:prstGeom>
          <a:solidFill>
            <a:srgbClr val="b0ccb0"/>
          </a:solidFill>
          <a:ln w="38160">
            <a:solidFill>
              <a:srgbClr val="80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14 Flecha arriba y abajo"/>
          <p:cNvSpPr/>
          <p:nvPr/>
        </p:nvSpPr>
        <p:spPr>
          <a:xfrm flipH="1">
            <a:off x="7215120" y="1214280"/>
            <a:ext cx="311040" cy="2357640"/>
          </a:xfrm>
          <a:prstGeom prst="upDownArrow">
            <a:avLst>
              <a:gd name="adj1" fmla="val 50000"/>
              <a:gd name="adj2" fmla="val 50006"/>
            </a:avLst>
          </a:prstGeom>
          <a:solidFill>
            <a:srgbClr val="b0ccb0"/>
          </a:solidFill>
          <a:ln w="38160">
            <a:solidFill>
              <a:srgbClr val="80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15 Flecha arriba y abajo"/>
          <p:cNvSpPr/>
          <p:nvPr/>
        </p:nvSpPr>
        <p:spPr>
          <a:xfrm>
            <a:off x="2286000" y="3143160"/>
            <a:ext cx="500040" cy="2428920"/>
          </a:xfrm>
          <a:prstGeom prst="upDownArrow">
            <a:avLst>
              <a:gd name="adj1" fmla="val 50000"/>
              <a:gd name="adj2" fmla="val 50014"/>
            </a:avLst>
          </a:prstGeom>
          <a:solidFill>
            <a:srgbClr val="b0ccb0"/>
          </a:solidFill>
          <a:ln w="38160">
            <a:solidFill>
              <a:srgbClr val="80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16 Flecha arriba y abajo"/>
          <p:cNvSpPr/>
          <p:nvPr/>
        </p:nvSpPr>
        <p:spPr>
          <a:xfrm>
            <a:off x="6929280" y="4786200"/>
            <a:ext cx="428760" cy="785880"/>
          </a:xfrm>
          <a:prstGeom prst="upDownArrow">
            <a:avLst>
              <a:gd name="adj1" fmla="val 50000"/>
              <a:gd name="adj2" fmla="val 49989"/>
            </a:avLst>
          </a:prstGeom>
          <a:solidFill>
            <a:srgbClr val="b0ccb0"/>
          </a:solidFill>
          <a:ln w="38160">
            <a:solidFill>
              <a:srgbClr val="80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17 CuadroTexto"/>
          <p:cNvSpPr/>
          <p:nvPr/>
        </p:nvSpPr>
        <p:spPr>
          <a:xfrm>
            <a:off x="2428920" y="578628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rbe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10 Elipse"/>
          <p:cNvSpPr/>
          <p:nvPr/>
        </p:nvSpPr>
        <p:spPr>
          <a:xfrm>
            <a:off x="3714840" y="2857680"/>
            <a:ext cx="2428920" cy="121428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Rockwell"/>
              </a:rPr>
              <a:t>2.PROGRAMACIÓN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11 CuadroTexto"/>
          <p:cNvSpPr/>
          <p:nvPr/>
        </p:nvSpPr>
        <p:spPr>
          <a:xfrm>
            <a:off x="8286840" y="1571760"/>
            <a:ext cx="35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E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12 CuadroTexto"/>
          <p:cNvSpPr/>
          <p:nvPr/>
        </p:nvSpPr>
        <p:spPr>
          <a:xfrm>
            <a:off x="785880" y="1643040"/>
            <a:ext cx="50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17 Flecha arriba y abajo"/>
          <p:cNvSpPr/>
          <p:nvPr/>
        </p:nvSpPr>
        <p:spPr>
          <a:xfrm>
            <a:off x="4786200" y="1357200"/>
            <a:ext cx="500040" cy="1500480"/>
          </a:xfrm>
          <a:prstGeom prst="upDownArrow">
            <a:avLst>
              <a:gd name="adj1" fmla="val 50000"/>
              <a:gd name="adj2" fmla="val 50012"/>
            </a:avLst>
          </a:prstGeom>
          <a:solidFill>
            <a:srgbClr val="b0ccb0"/>
          </a:solidFill>
          <a:ln w="38160">
            <a:solidFill>
              <a:srgbClr val="80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18 Flecha arriba y abajo"/>
          <p:cNvSpPr/>
          <p:nvPr/>
        </p:nvSpPr>
        <p:spPr>
          <a:xfrm>
            <a:off x="4643280" y="4214880"/>
            <a:ext cx="642960" cy="1357200"/>
          </a:xfrm>
          <a:prstGeom prst="upDownArrow">
            <a:avLst>
              <a:gd name="adj1" fmla="val 50000"/>
              <a:gd name="adj2" fmla="val 49996"/>
            </a:avLst>
          </a:prstGeom>
          <a:solidFill>
            <a:srgbClr val="b0ccb0"/>
          </a:solidFill>
          <a:ln w="38160">
            <a:solidFill>
              <a:srgbClr val="80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20 Rayo"/>
          <p:cNvSpPr/>
          <p:nvPr/>
        </p:nvSpPr>
        <p:spPr>
          <a:xfrm>
            <a:off x="3143160" y="2571840"/>
            <a:ext cx="928800" cy="500040"/>
          </a:xfrm>
          <a:prstGeom prst="lightningBolt">
            <a:avLst/>
          </a:prstGeom>
          <a:solidFill>
            <a:srgbClr val="b0ccb0"/>
          </a:solidFill>
          <a:ln w="38160">
            <a:solidFill>
              <a:srgbClr val="80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21 Rayo"/>
          <p:cNvSpPr/>
          <p:nvPr/>
        </p:nvSpPr>
        <p:spPr>
          <a:xfrm>
            <a:off x="5429160" y="3571920"/>
            <a:ext cx="928800" cy="357120"/>
          </a:xfrm>
          <a:prstGeom prst="lightningBolt">
            <a:avLst/>
          </a:prstGeom>
          <a:solidFill>
            <a:srgbClr val="b0ccb0"/>
          </a:solidFill>
          <a:ln w="38160">
            <a:solidFill>
              <a:srgbClr val="80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1 Título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517240" cy="11826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4" name="3 Elipse"/>
          <p:cNvSpPr/>
          <p:nvPr/>
        </p:nvSpPr>
        <p:spPr>
          <a:xfrm>
            <a:off x="285840" y="2000160"/>
            <a:ext cx="2857320" cy="164304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OBSERV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DIREC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5 Elipse"/>
          <p:cNvSpPr/>
          <p:nvPr/>
        </p:nvSpPr>
        <p:spPr>
          <a:xfrm>
            <a:off x="214200" y="4214880"/>
            <a:ext cx="2857680" cy="164304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OBSERV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INDIRECT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8 Rectángulo"/>
          <p:cNvSpPr/>
          <p:nvPr/>
        </p:nvSpPr>
        <p:spPr>
          <a:xfrm>
            <a:off x="4429080" y="4643280"/>
            <a:ext cx="2571840" cy="57168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OBSERVACION DOCUM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9 Rectángulo"/>
          <p:cNvSpPr/>
          <p:nvPr/>
        </p:nvSpPr>
        <p:spPr>
          <a:xfrm>
            <a:off x="4500720" y="5643720"/>
            <a:ext cx="2357280" cy="6429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ENCUEST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10 Rectángulo"/>
          <p:cNvSpPr/>
          <p:nvPr/>
        </p:nvSpPr>
        <p:spPr>
          <a:xfrm>
            <a:off x="4572000" y="3643200"/>
            <a:ext cx="2428920" cy="57168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OBSERVACION SISTEMA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11 Rectángulo"/>
          <p:cNvSpPr/>
          <p:nvPr/>
        </p:nvSpPr>
        <p:spPr>
          <a:xfrm>
            <a:off x="4500720" y="2071800"/>
            <a:ext cx="2357280" cy="85716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OBSERVACION EXPERIM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0" name="13 Conector recto de flecha"/>
          <p:cNvCxnSpPr>
            <a:stCxn id="454" idx="6"/>
          </p:cNvCxnSpPr>
          <p:nvPr/>
        </p:nvCxnSpPr>
        <p:spPr>
          <a:xfrm flipV="1">
            <a:off x="3142800" y="2571480"/>
            <a:ext cx="1358280" cy="249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1" name="15 Conector recto de flecha"/>
          <p:cNvCxnSpPr/>
          <p:nvPr/>
        </p:nvCxnSpPr>
        <p:spPr>
          <a:xfrm>
            <a:off x="3071520" y="3143160"/>
            <a:ext cx="1500840" cy="5724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2" name="17 Conector recto de flecha"/>
          <p:cNvCxnSpPr/>
          <p:nvPr/>
        </p:nvCxnSpPr>
        <p:spPr>
          <a:xfrm flipV="1">
            <a:off x="2999880" y="4714200"/>
            <a:ext cx="1358280" cy="1436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3" name="21 Conector recto de flecha"/>
          <p:cNvCxnSpPr>
            <a:stCxn id="455" idx="5"/>
          </p:cNvCxnSpPr>
          <p:nvPr/>
        </p:nvCxnSpPr>
        <p:spPr>
          <a:xfrm>
            <a:off x="2652840" y="5616360"/>
            <a:ext cx="1776960" cy="384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4" name="14 Rectángulo"/>
          <p:cNvSpPr/>
          <p:nvPr/>
        </p:nvSpPr>
        <p:spPr>
          <a:xfrm>
            <a:off x="7358040" y="2643120"/>
            <a:ext cx="1785960" cy="2428920"/>
          </a:xfrm>
          <a:prstGeom prst="rec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Rockwell"/>
              </a:rPr>
              <a:t>INSTRUMENTO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Rockwell"/>
              </a:rPr>
              <a:t>Cuestionar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Rockwell"/>
              </a:rPr>
              <a:t>Te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Rockwell"/>
              </a:rPr>
              <a:t>pruebas objetiv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Rockwell"/>
              </a:rPr>
              <a:t>guía 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18 Conector recto"/>
          <p:cNvSpPr/>
          <p:nvPr/>
        </p:nvSpPr>
        <p:spPr>
          <a:xfrm>
            <a:off x="6929280" y="2286000"/>
            <a:ext cx="7858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20 Conector recto"/>
          <p:cNvSpPr/>
          <p:nvPr/>
        </p:nvSpPr>
        <p:spPr>
          <a:xfrm>
            <a:off x="6929280" y="6000840"/>
            <a:ext cx="12146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7" name="23 Conector recto de flecha"/>
          <p:cNvCxnSpPr/>
          <p:nvPr/>
        </p:nvCxnSpPr>
        <p:spPr>
          <a:xfrm flipH="1">
            <a:off x="7714440" y="2286000"/>
            <a:ext cx="2520" cy="357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8" name="25 Conector recto de flecha"/>
          <p:cNvCxnSpPr/>
          <p:nvPr/>
        </p:nvCxnSpPr>
        <p:spPr>
          <a:xfrm flipV="1">
            <a:off x="8071200" y="5073120"/>
            <a:ext cx="2520" cy="929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9" name="27 Conector recto de flecha"/>
          <p:cNvCxnSpPr>
            <a:stCxn id="458" idx="3"/>
          </p:cNvCxnSpPr>
          <p:nvPr/>
        </p:nvCxnSpPr>
        <p:spPr>
          <a:xfrm>
            <a:off x="7000560" y="3928680"/>
            <a:ext cx="50076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29 Conector recto de flecha"/>
          <p:cNvCxnSpPr/>
          <p:nvPr/>
        </p:nvCxnSpPr>
        <p:spPr>
          <a:xfrm>
            <a:off x="7000560" y="4857840"/>
            <a:ext cx="429480" cy="2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f0f2d8"/>
              </a:solidFill>
              <a:latin typeface="Rockwel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ENFOQU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METODOLÓGICO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SOCIA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 </a:t>
            </a:r>
            <a:r>
              <a:rPr b="1" lang="es-PA" sz="3200" spc="-1" strike="noStrike">
                <a:solidFill>
                  <a:srgbClr val="ffc000"/>
                </a:solidFill>
                <a:latin typeface="Verdana"/>
                <a:ea typeface="Verdana"/>
              </a:rPr>
              <a:t>CUALITATIVO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600" spc="-1" strike="noStrike">
                <a:solidFill>
                  <a:srgbClr val="ffffff"/>
                </a:solidFill>
                <a:latin typeface="Verdana"/>
                <a:ea typeface="Verdana"/>
              </a:rPr>
              <a:t>uso de otros métodos igual de científicos: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600" spc="-1" strike="noStrike">
                <a:solidFill>
                  <a:srgbClr val="ffffff"/>
                </a:solidFill>
                <a:latin typeface="Verdana"/>
                <a:ea typeface="Verdana"/>
              </a:rPr>
              <a:t>etnográfico, fenomenológico, hermenéutico dialéctico, , investigación acción, entre otros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345520" cy="11527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500" spc="-1" strike="noStrike">
                <a:solidFill>
                  <a:srgbClr val="ffffff"/>
                </a:solidFill>
                <a:latin typeface="Rockwell"/>
                <a:ea typeface="Arial"/>
              </a:rPr>
              <a:t>1.¿Quiero conocer el modo de vida  de  un grupo humano?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500" spc="-1" strike="noStrike">
                <a:solidFill>
                  <a:srgbClr val="ffc000"/>
                </a:solidFill>
                <a:latin typeface="Rockwell"/>
                <a:ea typeface="Arial"/>
              </a:rPr>
              <a:t>USO EL MÉTODO ETNOGRÁFICO</a:t>
            </a:r>
            <a:r>
              <a:rPr b="1" lang="es-CR" sz="2500" spc="-1" strike="noStrike">
                <a:solidFill>
                  <a:srgbClr val="ffffff"/>
                </a:solidFill>
                <a:latin typeface="Rockwell"/>
                <a:ea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500" spc="-1" strike="noStrike">
                <a:solidFill>
                  <a:srgbClr val="ffffff"/>
                </a:solidFill>
                <a:latin typeface="Rockwell"/>
                <a:ea typeface="Arial"/>
              </a:rPr>
              <a:t>2. ¿Quiero conocer las vivencias de las personas sobre un hecho social?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500" spc="-1" strike="noStrike">
                <a:solidFill>
                  <a:srgbClr val="ffc000"/>
                </a:solidFill>
                <a:latin typeface="Rockwell"/>
                <a:ea typeface="Arial"/>
              </a:rPr>
              <a:t>USO EL MÉTODO FENOMENOLÓGICO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500" spc="-1" strike="noStrike">
                <a:solidFill>
                  <a:srgbClr val="ffffff"/>
                </a:solidFill>
                <a:latin typeface="Rockwell"/>
                <a:ea typeface="Arial"/>
              </a:rPr>
              <a:t>3. ¿Quiero interpretar los significados y las acciones de las personas sobre un hecho social?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500" spc="-1" strike="noStrike">
                <a:solidFill>
                  <a:srgbClr val="ffc000"/>
                </a:solidFill>
                <a:latin typeface="Rockwell"/>
                <a:ea typeface="Arial"/>
              </a:rPr>
              <a:t> </a:t>
            </a:r>
            <a:r>
              <a:rPr b="1" lang="es-CR" sz="2500" spc="-1" strike="noStrike">
                <a:solidFill>
                  <a:srgbClr val="ffc000"/>
                </a:solidFill>
                <a:latin typeface="Rockwell"/>
                <a:ea typeface="Arial"/>
              </a:rPr>
              <a:t>USO EL MÉTODO HERMENÉUTICO DIALÉCTICO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500" spc="-1" strike="noStrike">
                <a:solidFill>
                  <a:srgbClr val="ffffff"/>
                </a:solidFill>
                <a:latin typeface="Rockwell"/>
                <a:ea typeface="Arial"/>
              </a:rPr>
              <a:t>4.Quiero transformar el hecho social?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200" spc="-1" strike="noStrike">
                <a:solidFill>
                  <a:srgbClr val="ffc000"/>
                </a:solidFill>
                <a:latin typeface="Rockwell"/>
                <a:ea typeface="Arial"/>
              </a:rPr>
              <a:t>USO EL MÉTODO INVESTIGACIÓN ACCION 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7" name="3 Elipse"/>
          <p:cNvSpPr/>
          <p:nvPr/>
        </p:nvSpPr>
        <p:spPr>
          <a:xfrm>
            <a:off x="2786040" y="1500120"/>
            <a:ext cx="3143160" cy="178596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OBSERV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PARTICIPA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4 Elipse"/>
          <p:cNvSpPr/>
          <p:nvPr/>
        </p:nvSpPr>
        <p:spPr>
          <a:xfrm>
            <a:off x="5643720" y="2928960"/>
            <a:ext cx="3286080" cy="221472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ENTREVIS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NO ESTRUCTUR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5 Elipse"/>
          <p:cNvSpPr/>
          <p:nvPr/>
        </p:nvSpPr>
        <p:spPr>
          <a:xfrm>
            <a:off x="214200" y="3429000"/>
            <a:ext cx="3143520" cy="164304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OBSERVACIÓN DOCUM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6 Elipse"/>
          <p:cNvSpPr/>
          <p:nvPr/>
        </p:nvSpPr>
        <p:spPr>
          <a:xfrm>
            <a:off x="3214800" y="5072040"/>
            <a:ext cx="2857320" cy="1571760"/>
          </a:xfrm>
          <a:prstGeom prst="ellips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GRUPO DE DISCUSIÓN O F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7 Flecha cuádruple"/>
          <p:cNvSpPr/>
          <p:nvPr/>
        </p:nvSpPr>
        <p:spPr>
          <a:xfrm>
            <a:off x="2857680" y="2786040"/>
            <a:ext cx="3071520" cy="2643120"/>
          </a:xfrm>
          <a:prstGeom prst="pie">
            <a:avLst/>
          </a:prstGeom>
          <a:solidFill>
            <a:srgbClr val="a8cdd7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INSTRUMENT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GUÍ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600" spc="-1" strike="noStrike">
                <a:solidFill>
                  <a:srgbClr val="ffc000"/>
                </a:solidFill>
                <a:latin typeface="Rockwell"/>
                <a:ea typeface="Verdana"/>
              </a:rPr>
              <a:t>ENFOQUE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600" spc="-1" strike="noStrike">
                <a:solidFill>
                  <a:srgbClr val="ffc000"/>
                </a:solidFill>
                <a:latin typeface="Rockwell"/>
                <a:ea typeface="Verdana"/>
              </a:rPr>
              <a:t>METODOLÓGICO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600" spc="-1" strike="noStrike">
                <a:solidFill>
                  <a:srgbClr val="ffc000"/>
                </a:solidFill>
                <a:latin typeface="Rockwell"/>
                <a:ea typeface="Verdana"/>
              </a:rPr>
              <a:t>SOCIA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Rockwell"/>
              </a:rPr>
              <a:t>                                       </a:t>
            </a:r>
            <a:r>
              <a:rPr b="1" lang="es-ES" sz="3600" spc="-1" strike="noStrike">
                <a:solidFill>
                  <a:srgbClr val="ffc000"/>
                </a:solidFill>
                <a:latin typeface="Rockwell"/>
              </a:rPr>
              <a:t>MIXTO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1" lang="es-ES" sz="3200" spc="-1" strike="noStrike">
                <a:solidFill>
                  <a:srgbClr val="ffffff"/>
                </a:solidFill>
                <a:latin typeface="Rockwell"/>
              </a:rPr>
              <a:t>USO DE DOS MÉTODOS :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1" lang="es-ES" sz="3200" spc="-1" strike="noStrike">
                <a:solidFill>
                  <a:srgbClr val="ffffff"/>
                </a:solidFill>
                <a:latin typeface="Rockwell"/>
              </a:rPr>
              <a:t>UNO CUALITATIVO Y OTRO    CUANTITATIVO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345520" cy="1152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914400" y="1571760"/>
            <a:ext cx="77724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200" spc="-1" strike="noStrike">
                <a:solidFill>
                  <a:srgbClr val="ffffff"/>
                </a:solidFill>
                <a:latin typeface="Rockwell"/>
                <a:ea typeface="Arial"/>
              </a:rPr>
              <a:t>1.¿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  <a:ea typeface="Arial"/>
              </a:rPr>
              <a:t>Quiero conocer  “ las dos caras de la moneda”?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c000"/>
                </a:solidFill>
                <a:latin typeface="Rockwell"/>
                <a:ea typeface="Arial"/>
              </a:rPr>
              <a:t>   </a:t>
            </a:r>
            <a:r>
              <a:rPr b="1" lang="es-CR" sz="2400" spc="-1" strike="noStrike">
                <a:solidFill>
                  <a:srgbClr val="ffc000"/>
                </a:solidFill>
                <a:latin typeface="Rockwell"/>
                <a:ea typeface="Arial"/>
              </a:rPr>
              <a:t>USO EL  DISEÑO  INTEGRAL COMPLEMENTARIO (DICO)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  <a:ea typeface="Arial"/>
              </a:rPr>
              <a:t>2. ¿Quiero conocer  UN HECHO SOCIAL  INTEGRANDO SUS CUALIDADES CUALITATIVAS Y CUANTITATIVAS?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c000"/>
                </a:solidFill>
                <a:latin typeface="Rockwell"/>
                <a:ea typeface="Arial"/>
              </a:rPr>
              <a:t>    </a:t>
            </a:r>
            <a:r>
              <a:rPr b="1" lang="es-CR" sz="2400" spc="-1" strike="noStrike">
                <a:solidFill>
                  <a:srgbClr val="ffc000"/>
                </a:solidFill>
                <a:latin typeface="Rockwell"/>
                <a:ea typeface="Arial"/>
              </a:rPr>
              <a:t>USO EL DISEÑO  INTEGRAL TRIANGULADO (DITRI)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Rockwell"/>
                <a:ea typeface="Arial"/>
              </a:rPr>
              <a:t>3. ¿Quiero conocer un hecho social  transformando datos cualitativos en cuantitativos o viceversa ?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c000"/>
                </a:solidFill>
                <a:latin typeface="Rockwell"/>
                <a:ea typeface="Arial"/>
              </a:rPr>
              <a:t>    </a:t>
            </a:r>
            <a:r>
              <a:rPr b="1" lang="es-CR" sz="2400" spc="-1" strike="noStrike">
                <a:solidFill>
                  <a:srgbClr val="ffc000"/>
                </a:solidFill>
                <a:latin typeface="Rockwell"/>
                <a:ea typeface="Arial"/>
              </a:rPr>
              <a:t>USO EL DISEÑO  INTEGRAL TRASFORMADO  (DITRA)</a:t>
            </a:r>
            <a:r>
              <a:rPr b="1" lang="es-CR" sz="2400" spc="-1" strike="noStrike">
                <a:solidFill>
                  <a:srgbClr val="ffffff"/>
                </a:solidFill>
                <a:latin typeface="Rockwel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357120" y="1143000"/>
            <a:ext cx="8786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 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                                                              </a:t>
            </a: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MÉTODO A + MÉTODO B      RESULTADOS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DISEÑO INTEGRAL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COMPLEMENTARIO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  </a:t>
            </a:r>
            <a:r>
              <a:rPr b="1" lang="es-ES" sz="1700" spc="-1" strike="noStrike">
                <a:solidFill>
                  <a:srgbClr val="ffc000"/>
                </a:solidFill>
                <a:latin typeface="Rockwell"/>
              </a:rPr>
              <a:t>(DICO) </a:t>
            </a: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                                              +      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Rockwell"/>
              </a:rPr>
              <a:t>                                                                                        </a:t>
            </a:r>
            <a:r>
              <a:rPr b="1" lang="es-ES" sz="1200" spc="-1" strike="noStrike">
                <a:solidFill>
                  <a:srgbClr val="ffffff"/>
                </a:solidFill>
                <a:latin typeface="Rockwell"/>
              </a:rPr>
              <a:t>ESTRATEGIA  DE COMBINACIÓN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Rockwel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Rockwell"/>
              </a:rPr>
              <a:t>                  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DISEÑO INTEGRAL       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TRIANGULADO            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c000"/>
                </a:solidFill>
                <a:latin typeface="Rockwell"/>
              </a:rPr>
              <a:t>(DITRI )                                  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Rockwel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                                                             </a:t>
            </a:r>
            <a:r>
              <a:rPr b="1" lang="es-ES" sz="1200" spc="-1" strike="noStrike">
                <a:solidFill>
                  <a:srgbClr val="ffffff"/>
                </a:solidFill>
                <a:latin typeface="Rockwell"/>
              </a:rPr>
              <a:t>ESTRATEGIA DE  TRIANGULACIÓN</a:t>
            </a: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                 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DISEÑO INTEGRAL   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+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Rockwell"/>
              </a:rPr>
              <a:t>TRANSFORMADO                                               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c000"/>
                </a:solidFill>
                <a:latin typeface="Rockwell"/>
              </a:rPr>
              <a:t>(DITRA)</a:t>
            </a: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c000"/>
                </a:solidFill>
                <a:latin typeface="Rockwell"/>
              </a:rPr>
              <a:t>                                                           </a:t>
            </a:r>
            <a:r>
              <a:rPr b="1" lang="es-ES" sz="1200" spc="-1" strike="noStrike">
                <a:solidFill>
                  <a:srgbClr val="ffffff"/>
                </a:solidFill>
                <a:latin typeface="Rockwell"/>
              </a:rPr>
              <a:t>ESTRATEGIA  DE TRANSFORMACIÓN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8" name="3 Elipse"/>
          <p:cNvSpPr/>
          <p:nvPr/>
        </p:nvSpPr>
        <p:spPr>
          <a:xfrm>
            <a:off x="3643200" y="5000760"/>
            <a:ext cx="1000080" cy="928440"/>
          </a:xfrm>
          <a:prstGeom prst="ellipse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4 Elipse"/>
          <p:cNvSpPr/>
          <p:nvPr/>
        </p:nvSpPr>
        <p:spPr>
          <a:xfrm>
            <a:off x="7286760" y="3071880"/>
            <a:ext cx="1214280" cy="1143000"/>
          </a:xfrm>
          <a:prstGeom prst="ellipse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5 Elipse"/>
          <p:cNvSpPr/>
          <p:nvPr/>
        </p:nvSpPr>
        <p:spPr>
          <a:xfrm>
            <a:off x="3714840" y="3143160"/>
            <a:ext cx="928440" cy="928800"/>
          </a:xfrm>
          <a:prstGeom prst="ellipse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6 Elipse"/>
          <p:cNvSpPr/>
          <p:nvPr/>
        </p:nvSpPr>
        <p:spPr>
          <a:xfrm>
            <a:off x="3714840" y="1643040"/>
            <a:ext cx="1071360" cy="928800"/>
          </a:xfrm>
          <a:prstGeom prst="ellipse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10 Estrella de 5 puntas"/>
          <p:cNvSpPr/>
          <p:nvPr/>
        </p:nvSpPr>
        <p:spPr>
          <a:xfrm>
            <a:off x="5572080" y="1643040"/>
            <a:ext cx="1000080" cy="928800"/>
          </a:xfrm>
          <a:prstGeom prst="pie">
            <a:avLst/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12 Elipse"/>
          <p:cNvSpPr/>
          <p:nvPr/>
        </p:nvSpPr>
        <p:spPr>
          <a:xfrm>
            <a:off x="6858000" y="1714680"/>
            <a:ext cx="928800" cy="857160"/>
          </a:xfrm>
          <a:prstGeom prst="ellipse">
            <a:avLst/>
          </a:prstGeom>
          <a:solidFill>
            <a:srgbClr val="72a3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13 Estrella de 5 puntas"/>
          <p:cNvSpPr/>
          <p:nvPr/>
        </p:nvSpPr>
        <p:spPr>
          <a:xfrm>
            <a:off x="8001000" y="1643040"/>
            <a:ext cx="1143000" cy="785880"/>
          </a:xfrm>
          <a:prstGeom prst="pie">
            <a:avLst/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14 Estrella de 5 puntas"/>
          <p:cNvSpPr/>
          <p:nvPr/>
        </p:nvSpPr>
        <p:spPr>
          <a:xfrm>
            <a:off x="5572080" y="3071880"/>
            <a:ext cx="1000080" cy="928800"/>
          </a:xfrm>
          <a:prstGeom prst="pie">
            <a:avLst/>
          </a:prstGeom>
          <a:solidFill>
            <a:srgbClr val="a8cdd7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15 Estrella de 5 puntas"/>
          <p:cNvSpPr/>
          <p:nvPr/>
        </p:nvSpPr>
        <p:spPr>
          <a:xfrm>
            <a:off x="7358040" y="3143160"/>
            <a:ext cx="1071720" cy="785880"/>
          </a:xfrm>
          <a:prstGeom prst="pie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16 Estrella de 5 puntas"/>
          <p:cNvSpPr/>
          <p:nvPr/>
        </p:nvSpPr>
        <p:spPr>
          <a:xfrm>
            <a:off x="5286240" y="4929120"/>
            <a:ext cx="1357560" cy="928800"/>
          </a:xfrm>
          <a:prstGeom prst="pie">
            <a:avLst/>
          </a:prstGeom>
          <a:solidFill>
            <a:srgbClr val="ffc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17 Estrella de 5 puntas"/>
          <p:cNvSpPr/>
          <p:nvPr/>
        </p:nvSpPr>
        <p:spPr>
          <a:xfrm>
            <a:off x="7358040" y="5000760"/>
            <a:ext cx="1285920" cy="100008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19 Conector recto"/>
          <p:cNvSpPr/>
          <p:nvPr/>
        </p:nvSpPr>
        <p:spPr>
          <a:xfrm>
            <a:off x="6643800" y="1571760"/>
            <a:ext cx="71280" cy="464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21 Conector recto"/>
          <p:cNvSpPr/>
          <p:nvPr/>
        </p:nvSpPr>
        <p:spPr>
          <a:xfrm>
            <a:off x="3571920" y="2928960"/>
            <a:ext cx="5357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23 Conector recto"/>
          <p:cNvSpPr/>
          <p:nvPr/>
        </p:nvSpPr>
        <p:spPr>
          <a:xfrm>
            <a:off x="3571920" y="4857840"/>
            <a:ext cx="50720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18 Más"/>
          <p:cNvSpPr/>
          <p:nvPr/>
        </p:nvSpPr>
        <p:spPr>
          <a:xfrm>
            <a:off x="5000760" y="2000160"/>
            <a:ext cx="285480" cy="357120"/>
          </a:xfrm>
          <a:prstGeom prst="pie">
            <a:avLst/>
          </a:prstGeom>
          <a:solidFill>
            <a:srgbClr val="ffffff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19 Más"/>
          <p:cNvSpPr/>
          <p:nvPr/>
        </p:nvSpPr>
        <p:spPr>
          <a:xfrm>
            <a:off x="5072040" y="3571920"/>
            <a:ext cx="285840" cy="357120"/>
          </a:xfrm>
          <a:prstGeom prst="pie">
            <a:avLst/>
          </a:prstGeom>
          <a:solidFill>
            <a:srgbClr val="ffffff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20 Más"/>
          <p:cNvSpPr/>
          <p:nvPr/>
        </p:nvSpPr>
        <p:spPr>
          <a:xfrm>
            <a:off x="7858080" y="2143080"/>
            <a:ext cx="285840" cy="357120"/>
          </a:xfrm>
          <a:prstGeom prst="pie">
            <a:avLst/>
          </a:prstGeom>
          <a:solidFill>
            <a:srgbClr val="ffffff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21 Más"/>
          <p:cNvSpPr/>
          <p:nvPr/>
        </p:nvSpPr>
        <p:spPr>
          <a:xfrm>
            <a:off x="4929120" y="5357880"/>
            <a:ext cx="357120" cy="428400"/>
          </a:xfrm>
          <a:prstGeom prst="pie">
            <a:avLst/>
          </a:prstGeom>
          <a:solidFill>
            <a:srgbClr val="ffffff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214200" y="258840"/>
          <a:ext cx="8929800" cy="5257800"/>
        </p:xfrm>
        <a:graphic>
          <a:graphicData uri="http://schemas.openxmlformats.org/drawingml/2006/table">
            <a:tbl>
              <a:tblPr/>
              <a:tblGrid>
                <a:gridCol w="2000520"/>
                <a:gridCol w="2786040"/>
                <a:gridCol w="414324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cbe1e7"/>
                          </a:solidFill>
                          <a:latin typeface="Rockwell"/>
                        </a:rPr>
                        <a:t>ETAPAS DEL DISEÑO CURRICULA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TAPA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be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TAPA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8cd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TAPA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6e2e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DIAGNÓST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PROGRAM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GEST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bf0ec"/>
                    </a:solidFill>
                  </a:tcPr>
                </a:tc>
              </a:tr>
              <a:tr h="371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XTER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NTER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1 Perfil ocupacion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2 Perfil  profesio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3 Competencias generales de la carre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4 Competencias específic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5 Áreas curriculares.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5.1 Área específica: (nombre de los cursos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5.2Área complement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(nombre de los cursos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5.3Ejes transversales: investigación, ética, entre otr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6 Estructura del plan de estud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.7 Malla curricul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1 Requisitos de ingreso y criterios de admi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2 Requisitos de gradu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3 Título y grado que se otorg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4 Duración y créditos del programa (resumen).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5 Características del director (a) de carrer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6. Servicios de biblioteca,  laboratorios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8 Recursos de apoyo didáctico y de aprendizaje (Laboratorios, biblioteca, internet, equipo y otros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9 Tarifas de matrícula y costos de los cursos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3.10. Personal académi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64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1" lang="es-ES" sz="3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 </a:t>
                      </a:r>
                      <a:r>
                        <a:rPr b="1" lang="es-ES" sz="36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EVALUACIÓN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f0f2d8"/>
              </a:solidFill>
              <a:latin typeface="Rockwel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s-ES" sz="7200" spc="-1" strike="noStrike">
                <a:solidFill>
                  <a:srgbClr val="cbe1e7"/>
                </a:solidFill>
                <a:latin typeface="Rockwell"/>
              </a:rPr>
              <a:t>¿QUÉ ES UN DIAGNÓSTICO</a:t>
            </a:r>
            <a:r>
              <a:rPr b="0" lang="es-ES" sz="7200" spc="-1" strike="noStrike">
                <a:solidFill>
                  <a:srgbClr val="ffffff"/>
                </a:solidFill>
                <a:latin typeface="Rockwell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394840" cy="11588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C:\Users\Luis\Documents\CURRICULO HONDURAS\imagen 1.jpg"/>
          <p:cNvPicPr/>
          <p:nvPr/>
        </p:nvPicPr>
        <p:blipFill>
          <a:blip r:embed="rId2"/>
          <a:stretch/>
        </p:blipFill>
        <p:spPr>
          <a:xfrm>
            <a:off x="1554120" y="164628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1 Título" descr=""/>
          <p:cNvPicPr/>
          <p:nvPr/>
        </p:nvPicPr>
        <p:blipFill>
          <a:blip r:embed="rId1"/>
          <a:stretch/>
        </p:blipFill>
        <p:spPr>
          <a:xfrm>
            <a:off x="1365120" y="480960"/>
            <a:ext cx="8083800" cy="963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13716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Rockwell"/>
              </a:rPr>
              <a:t>Proviene del griego diagnostikós formado por el prefijo día (a través), y gnosis (conocimiento o apto para conocer). 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Rockwell"/>
              </a:rPr>
              <a:t>Análisis que se realiza para determinar  la situación  de una realidad social y cuáles son sus tendencias . 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Rockwell"/>
              </a:rPr>
              <a:t>Aporta   datos  de un hecho social  recogidos y ordenados sistemáticamente para conocer( externa e internamente) determinado  hecho  social . 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f0f2d8"/>
              </a:solidFill>
              <a:latin typeface="Rockwel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cbe1e7"/>
                </a:solidFill>
                <a:latin typeface="Rockwell"/>
              </a:rPr>
              <a:t>¿ QUÉ ES UN DIAGNÓSTICO CURRICULAR?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1 Título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637840" cy="115884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Rockwell"/>
              </a:rPr>
              <a:t>Proceso que  nos permite conocer determinada  realidad social de un diseño curricular   (en  sus ámbitos  externo e interno)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41112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600" spc="-1" strike="noStrike">
              <a:solidFill>
                <a:srgbClr val="f0f2d8"/>
              </a:solidFill>
              <a:latin typeface="Rockwel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91960">
              <a:buClr>
                <a:srgbClr val="72a37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Rockwell"/>
              </a:rPr>
              <a:t>¿CUÁL ES EL PROPÓSITO DEL DIAGNÓSTICO CURRICULAR?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2T13:39:12Z</dcterms:created>
  <dc:creator>Luis</dc:creator>
  <dc:description/>
  <dc:language>en-US</dc:language>
  <cp:lastModifiedBy>Luis</cp:lastModifiedBy>
  <dcterms:modified xsi:type="dcterms:W3CDTF">2018-03-18T16:26:18Z</dcterms:modified>
  <cp:revision>37</cp:revision>
  <dc:subject/>
  <dc:title>El diagnostico curricular</dc:title>
</cp:coreProperties>
</file>