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05A-3FC6-4ABB-9666-28954B96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D60-7917-4E6F-9644-707315FB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63D-989D-4C73-AB5C-5698102F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0D5-A181-4649-B17E-7249716B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B311-15F3-4A4E-BF1E-861BD826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AAC8-69C8-43EA-8BFF-E4F70FC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0C3-7A8F-4238-8234-75EC21AA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7A68-AF45-4EF1-BF27-404EC35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FFF1-7793-4D28-BE6F-80443A97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4CAB-BEAA-4A0B-88C4-2E84D06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3B21-E0B0-4C19-9A96-DCC8241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8CB-10A3-4429-A5A3-CE2867DF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4D86-CB0F-4C9B-935E-92017F1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4E09-D22C-40F1-8EA1-8341B74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3A2-6536-4387-95C0-0C0D01B2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61E-DCFA-416D-B481-4B158187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E40-08E4-4358-A822-C703AA6B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4F0D-EDD9-4ADE-9C80-F276E665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D2ED-9F61-4502-9CD1-DB6062EF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7C68-53E2-4515-BA23-822BD4C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7D75-A4A0-4EAE-AEC7-464D5F88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7D62-E987-4F00-A0F9-68C1477B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123-134B-44F4-83A0-EF92C71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F937-CE7E-458C-B68A-BF1EB3D3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94C3-30E0-46CA-AB0A-5EA1515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36BF-AF77-409D-866B-A5F303F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A785-20F4-4C3D-8661-BAA2E26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1E7D-6B26-440E-8C38-9EB902A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5C09-1D24-4F00-B2CD-F61439BA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A871-E534-4D6A-BD40-45FE8C92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6A38-C49F-40EB-962F-19F89D70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84311-08B5-4352-B8D1-AD4E78A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B6A2-612A-41CB-B587-AAA6C14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758-A44A-44DE-AB2B-F36CBA4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1E84-295A-4D6D-8259-C5490799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7BBB-93EC-42D5-BB1B-1F2888C2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6F96-FC93-4532-8D0E-40898BE9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CA02-609F-4D5D-B178-AF1297E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AFA9-9F03-4B89-8266-1D0348D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CC34-8FC6-49B2-BD1D-942EF44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089A-8AF9-4F18-BF12-EE1AE619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C44C-0D8B-4C0D-82CA-B2BE1310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D22E-32CA-40C3-840C-46C7FA7A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9E0C-1377-48C8-A58D-F03D4C7C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CEE-9CEC-49E0-9CDE-8CF0B8C6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2812-F306-4D85-906D-5A348A9F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60BB-269D-4C32-B463-684D3F62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27B8-23EE-48AA-8882-B0F5A03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F588-B3B9-4E1B-B669-ECC71466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DC68D-5656-4B35-B8A8-7D4ED0D4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8D4C-67E3-466C-94C1-F995C9B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1A823-A6F7-4BC7-A851-D2703BB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362DA-3E02-4B53-BCCE-0EF73FEF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D181-D403-45B3-AC20-476C2F6A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7458-934C-4120-A132-D33EEE36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7AA-BB24-4676-8901-E181C06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2536-4472-4A05-B400-D708F8CE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932-11DA-4225-AA16-392E86D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A5D-7821-480C-B240-3C23054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DEE-2A0C-439B-8A61-4FB68BB9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9C92-B17B-4F5D-85BB-36EA032E5C36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2EDC-F6AC-4170-8B0E-0ADD914F2F3D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2CB-613F-4B95-A76C-9B0B7D88D41E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9F13-06E1-4CDD-9DD3-6927C6270A5D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E6E-52EB-43AA-9829-C7C459013237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.wikipedia.org/wiki/Lawrence_Stenhous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R. LUIS RICARDO VILLALOBOS ZAMORA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onricardo2006@hotmail .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Tel. (+506) 8837577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6840" y="1714680"/>
            <a:ext cx="79009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FILTROS HISTÓRICOS, PSICOLÓGICOS , POLÍTICOS   permiten en nuestro diseño curricular  la definición de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fundamentac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erfil profesion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lan de estudi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ol del personal docente y del estudiantado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Tipo de gest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ecursos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Trebuchet MS"/>
              </a:rPr>
              <a:t>Permiten darle identificación  a nuestro diseño curricula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RA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ACADÉ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s conten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COG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83d68"/>
                </a:solidFill>
                <a:latin typeface="Trebuchet MS"/>
              </a:rPr>
              <a:t>Pia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apacidades cognitiv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Información por medio de tecnología para producir 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9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0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1" name="21 Conector recto de flecha"/>
          <p:cNvCxnSpPr>
            <a:stCxn id="310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2" name="25 Conector recto de flecha"/>
          <p:cNvCxnSpPr>
            <a:stCxn id="312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3" name="32 Conector recto de flecha"/>
          <p:cNvCxnSpPr>
            <a:stCxn id="315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4" name="35 Conector recto de flecha"/>
          <p:cNvCxnSpPr>
            <a:endCxn id="313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25" name="37 Flecha curvada hacia la izquierda"/>
          <p:cNvSpPr/>
          <p:nvPr/>
        </p:nvSpPr>
        <p:spPr>
          <a:xfrm>
            <a:off x="8501040" y="3357720"/>
            <a:ext cx="642960" cy="1071360"/>
          </a:xfrm>
          <a:custGeom>
            <a:avLst/>
            <a:gdLst>
              <a:gd name="textAreaLeft" fmla="*/ 86040 w 642960"/>
              <a:gd name="textAreaRight" fmla="*/ 556920 w 642960"/>
              <a:gd name="textAreaTop" fmla="*/ 207360 h 1071360"/>
              <a:gd name="textAreaBottom" fmla="*/ 7833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3379422"/>
                <a:lnTo>
                  <a:pt x="5400" y="21334"/>
                </a:lnTo>
                <a:lnTo>
                  <a:pt x="0" y="18360"/>
                </a:lnTo>
                <a:lnTo>
                  <a:pt x="5400" y="14854"/>
                </a:lnTo>
                <a:lnTo>
                  <a:pt x="5400" y="16474"/>
                </a:lnTo>
                <a:arcTo wR="21600" hR="8370" stAng="3379422" swAng="-3117132"/>
                <a:lnTo>
                  <a:pt x="21192" y="9990"/>
                </a:lnTo>
                <a:arcTo wR="21600" hR="8370" stAng="-262290" swAng="-5137710"/>
                <a:close/>
              </a:path>
              <a:path fill="darkenLess"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-262290"/>
                <a:lnTo>
                  <a:pt x="21192" y="9990"/>
                </a:lnTo>
                <a:arcTo wR="21600" hR="8370" stAng="-262290" swAng="-5137710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45488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 PERSONALIZ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NECESIDADES DE L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DE RECONSTRUCCIO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Agente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CONTEXT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POR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GRO DE COMPET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MAESTRO MEDI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7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8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9" name="21 Conector recto de flecha"/>
          <p:cNvCxnSpPr>
            <a:stCxn id="328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0" name="25 Conector recto de flecha"/>
          <p:cNvCxnSpPr>
            <a:stCxn id="330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1" name="32 Conector recto de flecha"/>
          <p:cNvCxnSpPr>
            <a:stCxn id="333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2" name="35 Conector recto de flecha"/>
          <p:cNvCxnSpPr>
            <a:endCxn id="331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43" name="37 Flecha curvada hacia la izquierda"/>
          <p:cNvSpPr/>
          <p:nvPr/>
        </p:nvSpPr>
        <p:spPr>
          <a:xfrm>
            <a:off x="8572680" y="3357720"/>
            <a:ext cx="571320" cy="1071360"/>
          </a:xfrm>
          <a:custGeom>
            <a:avLst/>
            <a:gdLst>
              <a:gd name="textAreaLeft" fmla="*/ 76320 w 571320"/>
              <a:gd name="textAreaRight" fmla="*/ 495000 w 571320"/>
              <a:gd name="textAreaTop" fmla="*/ 214200 h 1071360"/>
              <a:gd name="textAreaBottom" fmla="*/ 7858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3429472"/>
                <a:lnTo>
                  <a:pt x="5400" y="21326"/>
                </a:lnTo>
                <a:lnTo>
                  <a:pt x="0" y="18720"/>
                </a:lnTo>
                <a:lnTo>
                  <a:pt x="5400" y="15566"/>
                </a:lnTo>
                <a:lnTo>
                  <a:pt x="5400" y="17006"/>
                </a:lnTo>
                <a:arcTo wR="21600" hR="8640" stAng="3429472" swAng="-3197391"/>
                <a:lnTo>
                  <a:pt x="21298" y="10080"/>
                </a:lnTo>
                <a:arcTo wR="21600" hR="8640" stAng="-232081" swAng="-5167919"/>
                <a:close/>
              </a:path>
              <a:path fill="darkenLess"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-232081"/>
                <a:lnTo>
                  <a:pt x="21298" y="10080"/>
                </a:lnTo>
                <a:arcTo wR="21600" hR="8640" stAng="-232081" swAng="-5167919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6 Rectángulo redondeado"/>
          <p:cNvSpPr/>
          <p:nvPr/>
        </p:nvSpPr>
        <p:spPr>
          <a:xfrm>
            <a:off x="3286080" y="2643120"/>
            <a:ext cx="3071880" cy="135756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LIB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7 Elipse"/>
          <p:cNvSpPr/>
          <p:nvPr/>
        </p:nvSpPr>
        <p:spPr>
          <a:xfrm>
            <a:off x="7358040" y="25002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 Elipse"/>
          <p:cNvSpPr/>
          <p:nvPr/>
        </p:nvSpPr>
        <p:spPr>
          <a:xfrm>
            <a:off x="6357960" y="364320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DESARROLLO DE ACTOS REFLEX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LA CRÍTICA IDE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1 Estrella de 6 puntas"/>
          <p:cNvSpPr/>
          <p:nvPr/>
        </p:nvSpPr>
        <p:spPr>
          <a:xfrm>
            <a:off x="0" y="3214800"/>
            <a:ext cx="278604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16 Conector recto de flecha"/>
          <p:cNvCxnSpPr>
            <a:endCxn id="346" idx="1"/>
          </p:cNvCxnSpPr>
          <p:nvPr/>
        </p:nvCxnSpPr>
        <p:spPr>
          <a:xfrm flipV="1">
            <a:off x="2643120" y="3322440"/>
            <a:ext cx="643320" cy="24984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3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4" name="25 Conector recto de flecha"/>
          <p:cNvCxnSpPr/>
          <p:nvPr/>
        </p:nvCxnSpPr>
        <p:spPr>
          <a:xfrm>
            <a:off x="6428880" y="2857680"/>
            <a:ext cx="100116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5" name="32 Conector recto de flecha"/>
          <p:cNvCxnSpPr>
            <a:stCxn id="349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6" name="35 Conector recto de flecha"/>
          <p:cNvCxnSpPr/>
          <p:nvPr/>
        </p:nvCxnSpPr>
        <p:spPr>
          <a:xfrm flipV="1">
            <a:off x="6500880" y="3071160"/>
            <a:ext cx="929520" cy="39420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57" name="37 Flecha curvada hacia la izquierda"/>
          <p:cNvSpPr/>
          <p:nvPr/>
        </p:nvSpPr>
        <p:spPr>
          <a:xfrm>
            <a:off x="8501040" y="2714760"/>
            <a:ext cx="642960" cy="1285920"/>
          </a:xfrm>
          <a:custGeom>
            <a:avLst/>
            <a:gdLst>
              <a:gd name="textAreaLeft" fmla="*/ 86040 w 642960"/>
              <a:gd name="textAreaRight" fmla="*/ 556920 w 642960"/>
              <a:gd name="textAreaTop" fmla="*/ 261000 h 1285920"/>
              <a:gd name="textAreaBottom" fmla="*/ 944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1071720" y="12142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500040" y="1792440"/>
            <a:ext cx="421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000000"/>
                </a:solidFill>
                <a:latin typeface="Arial"/>
              </a:rPr>
              <a:t>¿QUÉ ES  CURRÍCULO</a:t>
            </a: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785880" y="42876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Arial"/>
              </a:rPr>
              <a:t>¿QUÉ ES EL CURRÍCU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1071720" y="121428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definiciones claras y precisas de currículo ha sido difícil, porque hay tantas definiciones como autores han estudiado el tema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1 Recortar rectángulo de esquina diagonal"/>
          <p:cNvSpPr/>
          <p:nvPr/>
        </p:nvSpPr>
        <p:spPr>
          <a:xfrm>
            <a:off x="785880" y="928800"/>
            <a:ext cx="2428920" cy="242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 sus orígenes se asociaba a lo que debía enseñarse en las escuelas (referencia exclusiva contenidos de las disciplinas y  plan de estudios de una  mat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 Recortar rectángulo de esquina diagonal"/>
          <p:cNvSpPr/>
          <p:nvPr/>
        </p:nvSpPr>
        <p:spPr>
          <a:xfrm>
            <a:off x="4357800" y="1000080"/>
            <a:ext cx="342900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Sthenhouse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 (1987)  lo asocia el a la realidad escolar, por tanto no sólo es intención, sino la relación existente entre las aspiraciones y las tentativas por hacerlas operativas en la escuela: el modo de llevar a cabo dichos propósitos y el modo de hacer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Nube"/>
          <p:cNvSpPr/>
          <p:nvPr/>
        </p:nvSpPr>
        <p:spPr>
          <a:xfrm>
            <a:off x="2286000" y="3000240"/>
            <a:ext cx="2928960" cy="1500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¿Currícul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4 Recortar rectángulo de esquina diagonal"/>
          <p:cNvSpPr/>
          <p:nvPr/>
        </p:nvSpPr>
        <p:spPr>
          <a:xfrm>
            <a:off x="500040" y="3714840"/>
            <a:ext cx="2786040" cy="29289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o una construcción cultural ( su estudio no puede separarse de la interacción humana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um no existe a priori, sino es un producto hum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Toda actividad humana, conlleva  un concepto particular de ser humano  y de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5 Recortar rectángulo de esquina diagonal"/>
          <p:cNvSpPr/>
          <p:nvPr/>
        </p:nvSpPr>
        <p:spPr>
          <a:xfrm>
            <a:off x="4929120" y="3500280"/>
            <a:ext cx="3214800" cy="32148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rredondo (1981): resultado de a) el análisis y reflexión sobre las características del contexto, del educando y de los recursos; b) la definición de los fines y los objetivos educativos; c) la especificación de medios y  procedimientos para asignar los recursos humanos, materiales, informativos, financieros, temporales y organizativos  para el logro los fines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4 Rectángulo redondeado"/>
          <p:cNvSpPr/>
          <p:nvPr/>
        </p:nvSpPr>
        <p:spPr>
          <a:xfrm>
            <a:off x="285840" y="3071880"/>
            <a:ext cx="2500200" cy="1071360"/>
          </a:xfrm>
          <a:prstGeom prst="roundRect">
            <a:avLst>
              <a:gd name="adj" fmla="val 16667"/>
            </a:avLst>
          </a:prstGeom>
          <a:solidFill>
            <a:srgbClr val="f2c4a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3d68"/>
                </a:solidFill>
                <a:latin typeface="Trebuchet MS"/>
              </a:rPr>
              <a:t>HAB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3214800" y="3500280"/>
            <a:ext cx="4429080" cy="928800"/>
          </a:xfrm>
          <a:prstGeom prst="rect">
            <a:avLst/>
          </a:prstGeom>
          <a:solidFill>
            <a:srgbClr val="d9d9d9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IA DE LOS INTERES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1 Elipse"/>
          <p:cNvSpPr/>
          <p:nvPr/>
        </p:nvSpPr>
        <p:spPr>
          <a:xfrm>
            <a:off x="1071720" y="4786200"/>
            <a:ext cx="207144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2 Elipse"/>
          <p:cNvSpPr/>
          <p:nvPr/>
        </p:nvSpPr>
        <p:spPr>
          <a:xfrm>
            <a:off x="5786280" y="4857840"/>
            <a:ext cx="2286000" cy="100008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PR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3 Elipse"/>
          <p:cNvSpPr/>
          <p:nvPr/>
        </p:nvSpPr>
        <p:spPr>
          <a:xfrm>
            <a:off x="3500280" y="4929120"/>
            <a:ext cx="1928880" cy="928800"/>
          </a:xfrm>
          <a:prstGeom prst="ellipse">
            <a:avLst/>
          </a:prstGeom>
          <a:solidFill>
            <a:srgbClr val="92d050"/>
          </a:solidFill>
          <a:ln w="39960">
            <a:solidFill>
              <a:srgbClr val="7d4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SIT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5 Hexágono"/>
          <p:cNvSpPr/>
          <p:nvPr/>
        </p:nvSpPr>
        <p:spPr>
          <a:xfrm>
            <a:off x="2071800" y="5786280"/>
            <a:ext cx="4857480" cy="85752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OBTENCION DEL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3 Flecha a la derecha con bandas"/>
          <p:cNvSpPr/>
          <p:nvPr/>
        </p:nvSpPr>
        <p:spPr>
          <a:xfrm flipV="1">
            <a:off x="2571840" y="3500280"/>
            <a:ext cx="714240" cy="500400"/>
          </a:xfrm>
          <a:prstGeom prst="pie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18 Conector recto de flecha"/>
          <p:cNvCxnSpPr/>
          <p:nvPr/>
        </p:nvCxnSpPr>
        <p:spPr>
          <a:xfrm flipH="1">
            <a:off x="2999880" y="4428000"/>
            <a:ext cx="1643760" cy="500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21 Conector recto de flecha"/>
          <p:cNvCxnSpPr/>
          <p:nvPr/>
        </p:nvCxnSpPr>
        <p:spPr>
          <a:xfrm flipH="1">
            <a:off x="4642560" y="4357800"/>
            <a:ext cx="1080" cy="645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28 Conector recto de flecha"/>
          <p:cNvCxnSpPr/>
          <p:nvPr/>
        </p:nvCxnSpPr>
        <p:spPr>
          <a:xfrm>
            <a:off x="4714560" y="44287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30 Sol"/>
          <p:cNvSpPr/>
          <p:nvPr/>
        </p:nvSpPr>
        <p:spPr>
          <a:xfrm>
            <a:off x="3143160" y="1000080"/>
            <a:ext cx="4357800" cy="2286000"/>
          </a:xfrm>
          <a:prstGeom prst="sun">
            <a:avLst>
              <a:gd name="adj" fmla="val 25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DUCTO O PRAXIS DEL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41852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3 Rectángulo redondeado"/>
          <p:cNvSpPr/>
          <p:nvPr/>
        </p:nvSpPr>
        <p:spPr>
          <a:xfrm>
            <a:off x="1071720" y="1714680"/>
            <a:ext cx="6715080" cy="714240"/>
          </a:xfrm>
          <a:prstGeom prst="roundRect">
            <a:avLst>
              <a:gd name="adj" fmla="val 16667"/>
            </a:avLst>
          </a:prstGeom>
          <a:solidFill>
            <a:srgbClr val="f8e2d7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 DE LOS INTERESE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4 Rectángulo redondeado"/>
          <p:cNvSpPr/>
          <p:nvPr/>
        </p:nvSpPr>
        <p:spPr>
          <a:xfrm>
            <a:off x="4214880" y="3071880"/>
            <a:ext cx="3571920" cy="1500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eses humano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Son aquellas orientaciones fundamentales de la especie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6 Nube"/>
          <p:cNvSpPr/>
          <p:nvPr/>
        </p:nvSpPr>
        <p:spPr>
          <a:xfrm>
            <a:off x="357120" y="2786040"/>
            <a:ext cx="3143160" cy="31431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Interés máxi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Conocer (para sobre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Elipse"/>
          <p:cNvSpPr/>
          <p:nvPr/>
        </p:nvSpPr>
        <p:spPr>
          <a:xfrm>
            <a:off x="3286080" y="5072040"/>
            <a:ext cx="1857600" cy="1643040"/>
          </a:xfrm>
          <a:prstGeom prst="ellipse">
            <a:avLst/>
          </a:prstGeom>
          <a:solidFill>
            <a:srgbClr val="cf6da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RODU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8 Elipse"/>
          <p:cNvSpPr/>
          <p:nvPr/>
        </p:nvSpPr>
        <p:spPr>
          <a:xfrm>
            <a:off x="5286240" y="5000760"/>
            <a:ext cx="1857600" cy="1714320"/>
          </a:xfrm>
          <a:prstGeom prst="ellipse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ÁC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9 Elipse"/>
          <p:cNvSpPr/>
          <p:nvPr/>
        </p:nvSpPr>
        <p:spPr>
          <a:xfrm>
            <a:off x="7215120" y="4929120"/>
            <a:ext cx="1928880" cy="1714680"/>
          </a:xfrm>
          <a:prstGeom prst="ellipse">
            <a:avLst/>
          </a:prstGeom>
          <a:solidFill>
            <a:srgbClr val="de6c3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TRANSFORMAR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11 Conector recto de flecha"/>
          <p:cNvCxnSpPr>
            <a:endCxn id="255" idx="0"/>
          </p:cNvCxnSpPr>
          <p:nvPr/>
        </p:nvCxnSpPr>
        <p:spPr>
          <a:xfrm flipH="1">
            <a:off x="4214520" y="4642920"/>
            <a:ext cx="35784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13 Conector recto de flecha"/>
          <p:cNvCxnSpPr>
            <a:endCxn id="256" idx="0"/>
          </p:cNvCxnSpPr>
          <p:nvPr/>
        </p:nvCxnSpPr>
        <p:spPr>
          <a:xfrm flipH="1">
            <a:off x="6214680" y="4573080"/>
            <a:ext cx="216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15 Conector recto de flecha"/>
          <p:cNvCxnSpPr/>
          <p:nvPr/>
        </p:nvCxnSpPr>
        <p:spPr>
          <a:xfrm>
            <a:off x="7429680" y="4572000"/>
            <a:ext cx="3578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16 Flecha a la derecha con bandas"/>
          <p:cNvSpPr/>
          <p:nvPr/>
        </p:nvSpPr>
        <p:spPr>
          <a:xfrm>
            <a:off x="2786040" y="3643200"/>
            <a:ext cx="1428840" cy="571680"/>
          </a:xfrm>
          <a:prstGeom prst="pie">
            <a:avLst/>
          </a:prstGeom>
          <a:solidFill>
            <a:srgbClr val="000000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Rectángulo"/>
          <p:cNvSpPr/>
          <p:nvPr/>
        </p:nvSpPr>
        <p:spPr>
          <a:xfrm>
            <a:off x="5214960" y="1785960"/>
            <a:ext cx="3143160" cy="714240"/>
          </a:xfrm>
          <a:prstGeom prst="rect">
            <a:avLst/>
          </a:prstGeom>
          <a:solidFill>
            <a:srgbClr val="852f7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Relaciones de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 Rectángulo"/>
          <p:cNvSpPr/>
          <p:nvPr/>
        </p:nvSpPr>
        <p:spPr>
          <a:xfrm>
            <a:off x="5929200" y="3286080"/>
            <a:ext cx="3214800" cy="2000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al producto y reacción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Resultado :aprendiz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des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desarrollo  de  la inteli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6 Rectángulo"/>
          <p:cNvSpPr/>
          <p:nvPr/>
        </p:nvSpPr>
        <p:spPr>
          <a:xfrm>
            <a:off x="2571840" y="5643720"/>
            <a:ext cx="4143240" cy="857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diseñado con objetivos de aprendizaje y una estructura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57120" y="3286080"/>
            <a:ext cx="1928880" cy="264312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positiv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producto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eficientes y efica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8 Nube"/>
          <p:cNvSpPr/>
          <p:nvPr/>
        </p:nvSpPr>
        <p:spPr>
          <a:xfrm>
            <a:off x="1643040" y="928800"/>
            <a:ext cx="2214720" cy="1428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0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4" name="15 Conector recto de flecha"/>
          <p:cNvCxnSpPr/>
          <p:nvPr/>
        </p:nvCxnSpPr>
        <p:spPr>
          <a:xfrm>
            <a:off x="3285000" y="2214720"/>
            <a:ext cx="429480" cy="1072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20 Conector recto de flecha"/>
          <p:cNvCxnSpPr/>
          <p:nvPr/>
        </p:nvCxnSpPr>
        <p:spPr>
          <a:xfrm>
            <a:off x="5286240" y="3929040"/>
            <a:ext cx="5724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25 Conector recto de flecha"/>
          <p:cNvCxnSpPr/>
          <p:nvPr/>
        </p:nvCxnSpPr>
        <p:spPr>
          <a:xfrm flipH="1" flipV="1">
            <a:off x="2285280" y="3928680"/>
            <a:ext cx="85788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4 Rectángulo"/>
          <p:cNvSpPr/>
          <p:nvPr/>
        </p:nvSpPr>
        <p:spPr>
          <a:xfrm>
            <a:off x="4786200" y="1643040"/>
            <a:ext cx="3143520" cy="714240"/>
          </a:xfrm>
          <a:prstGeom prst="rect">
            <a:avLst/>
          </a:prstGeom>
          <a:solidFill>
            <a:srgbClr val="00b050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Promueve la reflexión y la elaboración de ju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 Rectángulo"/>
          <p:cNvSpPr/>
          <p:nvPr/>
        </p:nvSpPr>
        <p:spPr>
          <a:xfrm>
            <a:off x="5929200" y="2571840"/>
            <a:ext cx="3214800" cy="292896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 a procesos e interpretación  de situaciones para dar sentido a la acción re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l “significado” de la experiencia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la pertinencia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6 Rectángulo"/>
          <p:cNvSpPr/>
          <p:nvPr/>
        </p:nvSpPr>
        <p:spPr>
          <a:xfrm>
            <a:off x="2571840" y="5572080"/>
            <a:ext cx="4143240" cy="107172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busca la comprensión de la realidad  y el cuestionamiento de la  práctica edu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Human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la acción sobre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(proc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 incorpora  al ser humano en su entorno 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Nube"/>
          <p:cNvSpPr/>
          <p:nvPr/>
        </p:nvSpPr>
        <p:spPr>
          <a:xfrm>
            <a:off x="1357200" y="857160"/>
            <a:ext cx="221472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PRÁC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5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9" name="15 Conector recto de flecha"/>
          <p:cNvCxnSpPr/>
          <p:nvPr/>
        </p:nvCxnSpPr>
        <p:spPr>
          <a:xfrm flipV="1">
            <a:off x="5357520" y="3859200"/>
            <a:ext cx="572040" cy="7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21 Conector recto de flecha"/>
          <p:cNvCxnSpPr/>
          <p:nvPr/>
        </p:nvCxnSpPr>
        <p:spPr>
          <a:xfrm flipH="1" flipV="1">
            <a:off x="2428200" y="392868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23 Conector recto de flecha"/>
          <p:cNvCxnSpPr/>
          <p:nvPr/>
        </p:nvCxnSpPr>
        <p:spPr>
          <a:xfrm>
            <a:off x="3000240" y="2286000"/>
            <a:ext cx="6433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7168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3 Estrella de 7 puntas"/>
          <p:cNvSpPr/>
          <p:nvPr/>
        </p:nvSpPr>
        <p:spPr>
          <a:xfrm>
            <a:off x="2643120" y="3000240"/>
            <a:ext cx="314316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CURRICULAR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4 Rectángulo"/>
          <p:cNvSpPr/>
          <p:nvPr/>
        </p:nvSpPr>
        <p:spPr>
          <a:xfrm>
            <a:off x="5000760" y="1643040"/>
            <a:ext cx="3143160" cy="714240"/>
          </a:xfrm>
          <a:prstGeom prst="rect">
            <a:avLst/>
          </a:prstGeom>
          <a:solidFill>
            <a:srgbClr val="e36406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una acción que modifica el mundo tanto como la comprensión sobre el mund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 Rectángulo"/>
          <p:cNvSpPr/>
          <p:nvPr/>
        </p:nvSpPr>
        <p:spPr>
          <a:xfrm>
            <a:off x="5929200" y="2643120"/>
            <a:ext cx="3214800" cy="235764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Orientado  a la transformación de la con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discernimiento entre lo cultural, susceptible de cam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laboración conjunta del conocimiento(docente-alumn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Busca  el cambi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Rectángulo"/>
          <p:cNvSpPr/>
          <p:nvPr/>
        </p:nvSpPr>
        <p:spPr>
          <a:xfrm>
            <a:off x="2786040" y="5500800"/>
            <a:ext cx="4929120" cy="135720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como praxis emancip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or tanto  es   político (quienes lo controlan tienen  poder de asegurarse que se acepten sus significados como dignos de ser transmi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cr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 la autorreflexión crítica y permite desnaturalizar niveles más profundos que la acción práctica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Nube"/>
          <p:cNvSpPr/>
          <p:nvPr/>
        </p:nvSpPr>
        <p:spPr>
          <a:xfrm>
            <a:off x="1000080" y="642960"/>
            <a:ext cx="278604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EMANCIP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0" name="12 Conector recto de flecha"/>
          <p:cNvCxnSpPr/>
          <p:nvPr/>
        </p:nvCxnSpPr>
        <p:spPr>
          <a:xfrm flipV="1">
            <a:off x="4857840" y="2428200"/>
            <a:ext cx="357840" cy="857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4" name="15 Conector recto de flecha"/>
          <p:cNvCxnSpPr/>
          <p:nvPr/>
        </p:nvCxnSpPr>
        <p:spPr>
          <a:xfrm>
            <a:off x="2856600" y="2071800"/>
            <a:ext cx="857880" cy="1357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23 Conector recto de flecha"/>
          <p:cNvCxnSpPr/>
          <p:nvPr/>
        </p:nvCxnSpPr>
        <p:spPr>
          <a:xfrm flipH="1" flipV="1">
            <a:off x="2357280" y="3928680"/>
            <a:ext cx="6433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2:42:30Z</dcterms:created>
  <dc:creator>Luis</dc:creator>
  <dc:description/>
  <dc:language>en-US</dc:language>
  <cp:lastModifiedBy>Luis</cp:lastModifiedBy>
  <dcterms:modified xsi:type="dcterms:W3CDTF">2018-03-18T14:25:44Z</dcterms:modified>
  <cp:revision>21</cp:revision>
  <dc:subject/>
  <dc:title>BASE EPISTÉMICA        DEL  CURRÍCULO</dc:title>
</cp:coreProperties>
</file>