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0AE-ED3B-4DEF-9CAD-DBF7B0C4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641-2FC5-43C1-8A86-8233CD18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6F9-C5B1-46A6-991B-95479916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1B1-9FF4-49BD-A024-F332F904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EB78B-3B84-4BC7-9214-25FF35CF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9E07F-18A6-4A8C-898F-AFE4F7DE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A906E-C462-4BF5-AFA1-FBFCB4D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EE73F-CE98-4BF2-90FC-680DCF96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5E32D-9D5C-44FE-9188-169EBA53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DF276-78D9-49F3-B91F-AFA10AFD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2E795-55B4-4C23-8073-0ADB181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A8E-B161-40C4-9E94-943778EF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8F099-AFA1-44EB-BDB7-8766CAB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51DF0-07F1-49E4-9BDA-AA7FD6D9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EB308-CFE0-4E3D-B344-98736D2F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A96F5-6567-4706-96F0-D81BECBF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93CF4-6407-4441-AA6F-A8C1A129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F0378-6F51-4C24-BDE7-DEEE5AF0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5DA63-35F0-4F80-84AE-BAC5BFE0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D48C-FB7A-4715-9318-97DAD995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B133-6828-4069-B678-F562BFDF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521D-FFF9-4D5E-8DEF-B1D43061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094-CBB3-45CB-A329-CFD0A923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73664-BE94-4ED7-9144-A6B1430C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6418E-61C8-48E4-AE09-0B4D729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721A-CC66-4035-B26C-C523BE4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629B-2DE8-487A-82B1-C0E81CB0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4903-5CA1-4E80-9F55-36926091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EDE9E-1A44-4F8D-A9D4-008503F3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B9EE-F4A4-4577-BCB6-FC7124DC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B2DC55-0504-47E7-BA41-F5404D93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29AD8-4342-4D1D-96BA-4D767447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0AA36-6D6F-4A1D-8BE9-AF5776F8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13A-CEB8-4286-8700-FB2030F8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2D5F1-5816-4409-B236-018B5AA2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AF25A-C384-41D0-8DFE-BF467140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84F01-6E30-4E08-A194-1044A4AF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CF869-FD9A-4562-8D96-7C27199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52837-B395-482A-B35A-4B1275F2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3CDE2-B0D3-4C4F-B96D-63E54C8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90DEE-7D8D-4E47-A4B7-BFB38308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DF542-57A0-45CC-869D-8737EC7C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D8705-2192-4F12-AE83-0B257BBD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345-804B-4B42-9872-A62DA345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ED9-24DB-4D63-8BEF-61F8380B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F08-FDF4-4476-AF6C-3B4F526D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D09-B898-4156-BF02-93437E3E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D53-6039-4EED-87F7-F44E536B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908E-B6DE-4ADF-A0AB-9B6FF5CDA99D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945C-9E5C-4F4A-BAAF-E0E1109F91B0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AB60-1708-4814-B3A4-5E42DF3D4EFA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17E1-70F2-46A4-A452-CDC46B177FE3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85c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400"/>
            </a:br>
            <a:r>
              <a:rPr b="0" lang="es-ES" sz="24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82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1 Título" descr=""/>
          <p:cNvPicPr/>
          <p:nvPr/>
        </p:nvPicPr>
        <p:blipFill>
          <a:blip r:embed="rId1"/>
          <a:stretch/>
        </p:blipFill>
        <p:spPr>
          <a:xfrm>
            <a:off x="328680" y="128520"/>
            <a:ext cx="8381880" cy="1266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Constantia"/>
              </a:rPr>
              <a:t>¿QUÉ CONOCER?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 La justificación  de la carrer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1 ¿En qué consiste la carrera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1.2 ¿Para qué sirve en nuestra sociedad ?    (Referentes universales y referentes nacionales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Las tendencias actuales de  la discipli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3.Otros diseños similares extranjeros y nacional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4. Las demandas sociales  (contexto mundial y nacional 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Constantia"/>
              </a:rPr>
              <a:t>5. Aspectos  conceptuales de la disciplin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285920" y="0"/>
          <a:ext cx="6095880" cy="62182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¿Para qué sirve en nuestra sociedad 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dencias actuales de 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tros diseños similares (extranjeros y nacionales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 demandas social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ndiales y nacionales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s  conceptuales de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857160" y="142920"/>
          <a:ext cx="7500960" cy="658332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  <a:gridCol w="1500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-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¿Para qué sirve en nuestra sociedad 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 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ndencias actuales de  la discipli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tros diseños similares (extranjeros y nacionale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as demandas social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undiales y nacionale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direc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 estructura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pecial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s  conceptuales de la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étodos   de  los enfoques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écnicas  de  los enfoqu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mentos   de  los enfoqu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ntitativ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alita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x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 Título" descr=""/>
          <p:cNvPicPr/>
          <p:nvPr/>
        </p:nvPicPr>
        <p:blipFill>
          <a:blip r:embed="rId1"/>
          <a:stretch/>
        </p:blipFill>
        <p:spPr>
          <a:xfrm>
            <a:off x="378000" y="146160"/>
            <a:ext cx="8351640" cy="1231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ASO 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mos una carpeta  en 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óngale título: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IAGNÓSTICO EXTER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ENTRO DE LA CARPETA ANTERIOR ABRA   </a:t>
            </a:r>
            <a:r>
              <a:rPr b="1" lang="es-ES" sz="2600" spc="-1" strike="noStrike">
                <a:solidFill>
                  <a:srgbClr val="ff0000"/>
                </a:solidFill>
                <a:latin typeface="Constantia"/>
              </a:rPr>
              <a:t>CINCO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CARPETAS  Y PÓNGALES LOS SIGUIENTES NOMB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1. Justificación de la carrera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nstantia"/>
              </a:rPr>
              <a:t>2.</a:t>
            </a: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 Tendencias actuales de  la disciplin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3. Diseños similares extranjeros y nacional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4. Demandas sociales  (contexto mundial y nacional )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Constantia"/>
              </a:rPr>
              <a:t>5. Aspectos  conceptuale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0004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INDICACIÓN  IMPORTANTE  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Elabore una ficha por  aspecto particular investigado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a. Inserte una tabla  con </a:t>
            </a:r>
            <a:r>
              <a:rPr b="1" lang="es-ES" sz="2400" spc="-1" strike="noStrike">
                <a:solidFill>
                  <a:srgbClr val="ff0000"/>
                </a:solidFill>
                <a:latin typeface="Constantia"/>
              </a:rPr>
              <a:t>dos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 columnas  y </a:t>
            </a:r>
            <a:r>
              <a:rPr b="1" lang="es-ES" sz="2400" spc="-1" strike="noStrike">
                <a:solidFill>
                  <a:srgbClr val="ff0000"/>
                </a:solidFill>
                <a:latin typeface="Constantia"/>
              </a:rPr>
              <a:t>cinco</a:t>
            </a: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  línea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nstantia"/>
              </a:rPr>
              <a:t>b. Rotúlelas de la siguiente manera</a:t>
            </a: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2 Título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4614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500120" y="3357720"/>
          <a:ext cx="6096240" cy="3227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UBDIMENSIÓN  </a:t>
                      </a: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85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UNDAMENTACIÓN DE LA CARR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85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UTOR(E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ferencias bibliográf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  nombre de la publicación editorial,  Nº de edición, ciudad , país, añ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ita (textual o contextu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9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rección electrón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 el taller siguiendo las indicaciones dadas por el facilitado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2 Título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13:25:50Z</dcterms:created>
  <dc:creator>Luis</dc:creator>
  <dc:description/>
  <dc:language>en-US</dc:language>
  <cp:lastModifiedBy>Luis</cp:lastModifiedBy>
  <dcterms:modified xsi:type="dcterms:W3CDTF">2018-03-18T16:40:22Z</dcterms:modified>
  <cp:revision>12</cp:revision>
  <dc:subject/>
  <dc:title>EL DIAGNÓSTICO EXTERNO</dc:title>
</cp:coreProperties>
</file>