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508F-57ED-431B-B0D6-64669A0B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0F66-D43B-4496-8D3C-D190A289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469-42BE-456E-AE11-8C352757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02F9-259B-4AC4-BCA8-0E49FC42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E401A-9088-49D0-9655-65730DDB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7E68D-C958-42D9-984A-7973190C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9C35C-4300-4A08-BC1E-27813148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92694-C888-4930-B787-6683A0BA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2A661-7F16-4B14-90B4-EE884424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5F9B4-5973-40D6-84BA-6F2F30AD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88A76-B834-49C4-9DC6-4A7B9A26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2D6-5650-4157-B27C-42276547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05E14-4EAB-48BA-B6AB-D50C07C6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1DA16-5FAA-454E-9A9B-27946925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4B836-8D6E-4B4F-AAE4-2D885423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F90A6-394A-4EDE-A26B-3D97D037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32F1E-4BE6-4846-A79E-50BEE5C2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95097-EB5B-4493-9A64-2E7C1D2D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416C7-1742-4F72-A2D9-533C6A6A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BEAB5-AF2C-482C-BA8D-90D08FC8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A8A05-9F06-40F2-A2DC-C72F2A9C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462BE-DACE-4902-A371-EC4E4672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3014-7BCB-4C48-8E68-431A2B27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7C533-75F8-452B-AB7E-C6A7ED62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97D6B-7F98-4135-BBFF-C4A77817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18374-4E6A-4E50-A6F9-A48D8AC9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F0188-2662-4697-95FE-D6BCB270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9128D-811B-4B5A-A571-5BCD44AB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232B5-51EB-462B-BB96-40C4586E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8CC16-F996-447D-9038-ADACF495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C10D7D-3C6E-4C45-8048-AE7131D1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6F25D9-C053-48F7-A13D-B8AC3A36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CEA465-1CBB-449A-89BA-C618380D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24F-C5F4-4441-84A0-B91D8A92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6B677D-397B-40D6-8D27-18E57D4E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DC98D8-DFBD-4EBF-81F6-96B2F5F7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9BF591-85D8-4550-9614-4DB01AA5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E18F44-9895-4AAF-9CC3-245C2E9A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126924-5282-4BD1-BD26-5514C907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844330-76B0-4396-8AF3-4FB8D3A7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126FC1-BCE3-4BE9-B426-52954342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13A510-0373-41C2-A093-FF56987D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374FC6-768C-443B-BF7D-DD83E9B8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962-3365-4591-98F7-03D6F4B9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804-B875-4143-AB72-73DB448B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6EB4-4068-44C1-A1AF-884572AA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D930-1DB3-472F-B8CC-FC9C0E6F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AD2-1974-4C74-827C-E76B4628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5D14-3974-4341-83A6-1E76AFCAD088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8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A042-FA30-4CFA-B4F3-02936F76F797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1077-A3D0-48EC-B639-333D311FD134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67BE-154C-4F33-AFC6-B2B630C82EC3}" type="slidenum">
              <a:rPr b="0" lang="es-E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onricardo2006@hotmail.co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onografias.com/trabajos11/empre/empre.shtml" TargetMode="External"/><Relationship Id="rId2" Type="http://schemas.openxmlformats.org/officeDocument/2006/relationships/hyperlink" Target="http://www.monografias.com/trabajos11/sercli/sercli.shtm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440"/>
            <a:ext cx="830592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9c85c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r. Luis Ricardo Villalobos Zamora</a:t>
            </a:r>
            <a:br>
              <a:rPr sz="2400"/>
            </a:br>
            <a:r>
              <a:rPr b="0" lang="es-ES" sz="2400" spc="-1" strike="noStrike" u="sng">
                <a:solidFill>
                  <a:srgbClr val="8e58b6"/>
                </a:solidFill>
                <a:uFillTx/>
                <a:latin typeface="Arial"/>
                <a:ea typeface="Arial"/>
                <a:hlinkClick r:id="rId1"/>
              </a:rPr>
              <a:t>donricardo2006@hotmail.com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el (+506 )8837 5773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1 Título" descr=""/>
          <p:cNvPicPr/>
          <p:nvPr/>
        </p:nvPicPr>
        <p:blipFill>
          <a:blip r:embed="rId2"/>
          <a:stretch/>
        </p:blipFill>
        <p:spPr>
          <a:xfrm>
            <a:off x="457200" y="1432080"/>
            <a:ext cx="83152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DENTRO DE LA CARPETA ANTERIOR ABRA   </a:t>
            </a:r>
            <a:r>
              <a:rPr b="1" lang="es-ES" sz="2600" spc="-1" strike="noStrike">
                <a:solidFill>
                  <a:srgbClr val="ff0000"/>
                </a:solidFill>
                <a:latin typeface="Constantia"/>
              </a:rPr>
              <a:t>SEIS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CARPETAS  Y PÓNGALES LOS SIGUIENTES NOMBR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ffffff"/>
                </a:solidFill>
                <a:latin typeface="Constantia"/>
              </a:rPr>
              <a:t>Empleabilidad de la carrera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ffffff"/>
                </a:solidFill>
                <a:latin typeface="Constantia"/>
              </a:rPr>
              <a:t>Población met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CR" sz="2600" spc="-1" strike="noStrike">
                <a:solidFill>
                  <a:srgbClr val="ffffff"/>
                </a:solidFill>
                <a:latin typeface="Constantia"/>
              </a:rPr>
              <a:t>Objeto de estudi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Tipo  de concepción curricula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Visión y Misió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Historia (UNAH y carrera)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2 Título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5684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2 Título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1 Título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57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857160" y="150012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900" spc="-1" strike="noStrike">
                <a:solidFill>
                  <a:srgbClr val="ffffff"/>
                </a:solidFill>
                <a:latin typeface="Constantia"/>
              </a:rPr>
              <a:t>SUBDIMENSIONES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2.1 EMPLEABILIDAD DE LA CARRERA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Necesidades laborales y académicas en el país  que respalden la apertura o modificación de la carrera. Considerar el contexto socioeconómico y político del país y sustentarlo con datos estadísticos de la realidad naciona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2.2  OBJETO DE ESTUDIO O NATURALEZA DE LA CARRER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Debe ser evidenciado y conceptualizado con amplitud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2.3   POBLACIÓN META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Especificar el campo ocupacional de los egresados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lang="es-ES" sz="1600" spc="-1" strike="noStrike">
                <a:solidFill>
                  <a:srgbClr val="ffffff"/>
                </a:solidFill>
                <a:latin typeface="Constantia"/>
              </a:rPr>
              <a:t>Plantear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los intereses, motivaciones y expectativas de los y las  estudiantes y su relación con  la dimensión axiológica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es-CR" sz="1600" spc="-1" strike="noStrike">
                <a:solidFill>
                  <a:srgbClr val="ffffff"/>
                </a:solidFill>
                <a:latin typeface="Constantia"/>
              </a:rPr>
              <a:t>Plantear la orientación humanista en la formación del estudi</a:t>
            </a:r>
            <a:r>
              <a:rPr b="0" lang="es-CR" sz="1600" spc="-1" strike="noStrike">
                <a:solidFill>
                  <a:srgbClr val="ffffff"/>
                </a:solidFill>
                <a:latin typeface="Constantia"/>
              </a:rPr>
              <a:t>antado</a:t>
            </a:r>
            <a:r>
              <a:rPr b="0" lang="es-CR" sz="16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1 Título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57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857160" y="149976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Arial"/>
                <a:ea typeface="Arial"/>
              </a:rPr>
              <a:t>SUBDIMENSION 2.5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Constantia"/>
              </a:rPr>
              <a:t>Enfoque curricular por competencia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200" spc="-1" strike="noStrike">
                <a:solidFill>
                  <a:srgbClr val="002060"/>
                </a:solidFill>
                <a:latin typeface="Constantia"/>
              </a:rPr>
              <a:t>   </a:t>
            </a:r>
            <a:r>
              <a:rPr b="0" lang="es-CR" sz="2200" spc="-1" strike="noStrike">
                <a:solidFill>
                  <a:srgbClr val="002060"/>
                </a:solidFill>
                <a:latin typeface="Constantia"/>
              </a:rPr>
              <a:t>Sustenta la estructura del plan de estudios de la carrera, ( respalda la propuesta) y define aspectos tales como: metodología, estrategias de aprendizaje y evaluación de aprendizajes, que permitan identificar, tanto las características de aprendizaje de los estudiantes como la coherencia de los elementos del plan de estudios presentado</a:t>
            </a:r>
            <a:r>
              <a:rPr b="0" lang="es-CR" sz="2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Arial"/>
                <a:ea typeface="Arial"/>
              </a:rPr>
              <a:t>SUBDIMENSIÓN 2.6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Constantia"/>
              </a:rPr>
              <a:t>Historia 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Constantia"/>
              </a:rPr>
              <a:t>UNAH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es-CR" sz="2200" spc="-1" strike="noStrike">
                <a:solidFill>
                  <a:srgbClr val="002060"/>
                </a:solidFill>
                <a:latin typeface="Constantia"/>
              </a:rPr>
              <a:t>carrera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1 Título" descr=""/>
          <p:cNvPicPr/>
          <p:nvPr/>
        </p:nvPicPr>
        <p:blipFill>
          <a:blip r:embed="rId1"/>
          <a:stretch/>
        </p:blipFill>
        <p:spPr>
          <a:xfrm>
            <a:off x="438120" y="133200"/>
            <a:ext cx="8267760" cy="1257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857160" y="149976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Arial"/>
                <a:ea typeface="Arial"/>
              </a:rPr>
              <a:t>SUBDIMENSION 2.5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,  </a:t>
            </a:r>
            <a:r>
              <a:rPr b="0" lang="es-CR" sz="24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3 Rectángulo"/>
          <p:cNvSpPr/>
          <p:nvPr/>
        </p:nvSpPr>
        <p:spPr>
          <a:xfrm>
            <a:off x="1143000" y="2500200"/>
            <a:ext cx="164304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2060"/>
                </a:solidFill>
                <a:latin typeface="Constantia"/>
              </a:rPr>
              <a:t>Visión</a:t>
            </a:r>
            <a:r>
              <a:rPr b="1" lang="es-ES" sz="18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4 Rectángulo"/>
          <p:cNvSpPr/>
          <p:nvPr/>
        </p:nvSpPr>
        <p:spPr>
          <a:xfrm>
            <a:off x="3143160" y="2000160"/>
            <a:ext cx="492912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Es  el “SER “de la universid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y  la carrera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5 Rectángulo redondeado"/>
          <p:cNvSpPr/>
          <p:nvPr/>
        </p:nvSpPr>
        <p:spPr>
          <a:xfrm>
            <a:off x="3286080" y="285768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APORTA   EL “QUÉ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Responde a la pregunta ¿qué  es  la institución (o carrera) 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6 Rectángulo"/>
          <p:cNvSpPr/>
          <p:nvPr/>
        </p:nvSpPr>
        <p:spPr>
          <a:xfrm>
            <a:off x="1143000" y="4214880"/>
            <a:ext cx="17146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Mis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7 Rectángulo"/>
          <p:cNvSpPr/>
          <p:nvPr/>
        </p:nvSpPr>
        <p:spPr>
          <a:xfrm>
            <a:off x="3357720" y="3929040"/>
            <a:ext cx="4714560" cy="85716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Es  el propósito de  la universid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y de la carrera </a:t>
            </a: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8 Rectángulo redondeado"/>
          <p:cNvSpPr/>
          <p:nvPr/>
        </p:nvSpPr>
        <p:spPr>
          <a:xfrm>
            <a:off x="3214800" y="4929120"/>
            <a:ext cx="4786200" cy="1285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onstantia"/>
              </a:rPr>
              <a:t>Aporta  el “ PARA  QUÉ”  .Responde a la pregunta ¿  para qué existe la universidad ( o la carrera)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9 Flecha arriba y abajo"/>
          <p:cNvSpPr/>
          <p:nvPr/>
        </p:nvSpPr>
        <p:spPr>
          <a:xfrm>
            <a:off x="1714680" y="3357720"/>
            <a:ext cx="500040" cy="857160"/>
          </a:xfrm>
          <a:prstGeom prst="upDownArrow">
            <a:avLst>
              <a:gd name="adj1" fmla="val 50000"/>
              <a:gd name="adj2" fmla="val 49997"/>
            </a:avLst>
          </a:prstGeom>
          <a:solidFill>
            <a:srgbClr val="d092a7"/>
          </a:solidFill>
          <a:ln w="38160">
            <a:solidFill>
              <a:srgbClr val="986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5" name="11 Conector recto de flecha"/>
          <p:cNvCxnSpPr>
            <a:stCxn id="178" idx="3"/>
            <a:endCxn id="179" idx="1"/>
          </p:cNvCxnSpPr>
          <p:nvPr/>
        </p:nvCxnSpPr>
        <p:spPr>
          <a:xfrm flipV="1">
            <a:off x="2786040" y="2393280"/>
            <a:ext cx="357840" cy="500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6" name="13 Conector recto de flecha"/>
          <p:cNvCxnSpPr>
            <a:stCxn id="178" idx="3"/>
            <a:endCxn id="180" idx="1"/>
          </p:cNvCxnSpPr>
          <p:nvPr/>
        </p:nvCxnSpPr>
        <p:spPr>
          <a:xfrm>
            <a:off x="2785680" y="2894040"/>
            <a:ext cx="500760" cy="464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7" name="15 Conector recto de flecha"/>
          <p:cNvCxnSpPr>
            <a:stCxn id="181" idx="3"/>
          </p:cNvCxnSpPr>
          <p:nvPr/>
        </p:nvCxnSpPr>
        <p:spPr>
          <a:xfrm flipV="1">
            <a:off x="2857320" y="4285440"/>
            <a:ext cx="643320" cy="322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8" name="17 Conector recto de flecha"/>
          <p:cNvCxnSpPr>
            <a:stCxn id="181" idx="3"/>
          </p:cNvCxnSpPr>
          <p:nvPr/>
        </p:nvCxnSpPr>
        <p:spPr>
          <a:xfrm>
            <a:off x="2857320" y="4608000"/>
            <a:ext cx="286200" cy="964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Somos una exitosa </a:t>
            </a:r>
            <a:r>
              <a:rPr b="0" lang="es-ES" sz="2600" spc="-1" strike="noStrike" u="sng">
                <a:solidFill>
                  <a:srgbClr val="8e58b6"/>
                </a:solidFill>
                <a:uFillTx/>
                <a:latin typeface="Constantia"/>
                <a:hlinkClick r:id="rId1"/>
              </a:rPr>
              <a:t>empresa</a:t>
            </a: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 detallista de bienes y servicios, reconocida por su capacidad de generar bienestar para nuestros </a:t>
            </a:r>
            <a:r>
              <a:rPr b="0" lang="es-ES" sz="26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clientes</a:t>
            </a: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, colaboradores, accionistas, y nuestra comunidad en genera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04480" indent="-20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¿VISIÓN  o MISION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04480" indent="-20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Satisfacer a nuestros clientes, brindándoles, al mejor precio posible, productos y servicios de calidad, adecuados a sus necesidades; y exceder sus expectativas, sirviéndoles con esmero, originalidad, y atención a los detalles</a:t>
            </a:r>
            <a:r>
              <a:rPr b="0" lang="es-ES" sz="26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04480" indent="-20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2060"/>
                </a:solidFill>
                <a:latin typeface="Constantia"/>
              </a:rPr>
              <a:t>¿VISIÓN  o MISION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04480" indent="-204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2 Título" descr=""/>
          <p:cNvPicPr/>
          <p:nvPr/>
        </p:nvPicPr>
        <p:blipFill>
          <a:blip r:embed="rId3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00040" y="15717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nstantia"/>
              </a:rPr>
              <a:t>                                    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QUÉ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CONOC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2 Título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93" name="4 Rectángulo"/>
          <p:cNvSpPr/>
          <p:nvPr/>
        </p:nvSpPr>
        <p:spPr>
          <a:xfrm>
            <a:off x="3500280" y="1571760"/>
            <a:ext cx="4143600" cy="1000080"/>
          </a:xfrm>
          <a:prstGeom prst="rect">
            <a:avLst/>
          </a:prstGeom>
          <a:solidFill>
            <a:srgbClr val="e7bc29"/>
          </a:solidFill>
          <a:ln w="38160">
            <a:solidFill>
              <a:srgbClr val="aa89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Constantia"/>
              </a:rPr>
              <a:t>1.EMPLEABILIDAD DE LA CARRE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5 Rectángulo redondeado"/>
          <p:cNvSpPr/>
          <p:nvPr/>
        </p:nvSpPr>
        <p:spPr>
          <a:xfrm>
            <a:off x="4929120" y="4714920"/>
            <a:ext cx="1643040" cy="1571760"/>
          </a:xfrm>
          <a:prstGeom prst="roundRect">
            <a:avLst>
              <a:gd name="adj" fmla="val 16667"/>
            </a:avLst>
          </a:prstGeom>
          <a:solidFill>
            <a:srgbClr val="9c85c0"/>
          </a:solidFill>
          <a:ln w="38160">
            <a:solidFill>
              <a:srgbClr val="716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CR" sz="1800" spc="-1" strike="noStrike">
                <a:solidFill>
                  <a:srgbClr val="000000"/>
                </a:solidFill>
                <a:latin typeface="Constantia"/>
              </a:rPr>
              <a:t>3.OBJETO DE ESTUD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6 Rectángulo redondeado"/>
          <p:cNvSpPr/>
          <p:nvPr/>
        </p:nvSpPr>
        <p:spPr>
          <a:xfrm>
            <a:off x="6000840" y="2786040"/>
            <a:ext cx="2143080" cy="17146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Constantia"/>
              </a:rPr>
              <a:t>2.POBL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Constantia"/>
              </a:rPr>
              <a:t>M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7 Rectángulo redondeado"/>
          <p:cNvSpPr/>
          <p:nvPr/>
        </p:nvSpPr>
        <p:spPr>
          <a:xfrm>
            <a:off x="1214280" y="4786200"/>
            <a:ext cx="2214720" cy="1357560"/>
          </a:xfrm>
          <a:prstGeom prst="roundRect">
            <a:avLst>
              <a:gd name="adj" fmla="val 16667"/>
            </a:avLst>
          </a:prstGeom>
          <a:solidFill>
            <a:srgbClr val="809ec2"/>
          </a:solidFill>
          <a:ln w="38160">
            <a:solidFill>
              <a:srgbClr val="5c73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4.TIPO  DE CONCEPCIÓN CURRICU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8 Rectángulo redondeado"/>
          <p:cNvSpPr/>
          <p:nvPr/>
        </p:nvSpPr>
        <p:spPr>
          <a:xfrm>
            <a:off x="428760" y="3000240"/>
            <a:ext cx="2500200" cy="1500480"/>
          </a:xfrm>
          <a:prstGeom prst="roundRect">
            <a:avLst>
              <a:gd name="adj" fmla="val 16667"/>
            </a:avLst>
          </a:prstGeom>
          <a:solidFill>
            <a:srgbClr val="f3a447"/>
          </a:solidFill>
          <a:ln w="38160">
            <a:solidFill>
              <a:srgbClr val="b377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5.VISION Y MIS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nstantia"/>
              </a:rPr>
              <a:t>DE LA UNIVERSIDA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nstantia"/>
              </a:rPr>
              <a:t>DE LA CARRER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8" name="10 Conector recto de flecha"/>
          <p:cNvCxnSpPr/>
          <p:nvPr/>
        </p:nvCxnSpPr>
        <p:spPr>
          <a:xfrm flipV="1">
            <a:off x="4285080" y="2714040"/>
            <a:ext cx="2520" cy="5720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9" name="12 Conector recto de flecha"/>
          <p:cNvCxnSpPr/>
          <p:nvPr/>
        </p:nvCxnSpPr>
        <p:spPr>
          <a:xfrm>
            <a:off x="5143320" y="3714840"/>
            <a:ext cx="929160" cy="21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0" name="14 Conector recto de flecha"/>
          <p:cNvCxnSpPr/>
          <p:nvPr/>
        </p:nvCxnSpPr>
        <p:spPr>
          <a:xfrm>
            <a:off x="5214600" y="4286160"/>
            <a:ext cx="572040" cy="3578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1" name="19 Conector recto de flecha"/>
          <p:cNvCxnSpPr/>
          <p:nvPr/>
        </p:nvCxnSpPr>
        <p:spPr>
          <a:xfrm flipH="1" flipV="1">
            <a:off x="3000240" y="3642480"/>
            <a:ext cx="643320" cy="2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21 Conector recto de flecha"/>
          <p:cNvCxnSpPr/>
          <p:nvPr/>
        </p:nvCxnSpPr>
        <p:spPr>
          <a:xfrm flipH="1">
            <a:off x="3428280" y="4428720"/>
            <a:ext cx="429480" cy="4294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3" name="15 Conector recto de flecha"/>
          <p:cNvCxnSpPr/>
          <p:nvPr/>
        </p:nvCxnSpPr>
        <p:spPr>
          <a:xfrm flipH="1" flipV="1">
            <a:off x="3142800" y="2785320"/>
            <a:ext cx="572400" cy="4294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4" name="16 Rectángulo redondeado"/>
          <p:cNvSpPr/>
          <p:nvPr/>
        </p:nvSpPr>
        <p:spPr>
          <a:xfrm>
            <a:off x="857160" y="1643040"/>
            <a:ext cx="2357640" cy="1071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6.Historia</a:t>
            </a:r>
            <a:r>
              <a:rPr b="0" lang="es-E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Univers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onstantia"/>
              </a:rPr>
              <a:t>carr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1143000" y="428760"/>
          <a:ext cx="7000920" cy="6065640"/>
        </p:xfrm>
        <a:graphic>
          <a:graphicData uri="http://schemas.openxmlformats.org/drawingml/2006/table">
            <a:tbl>
              <a:tblPr/>
              <a:tblGrid>
                <a:gridCol w="1751040"/>
                <a:gridCol w="1749240"/>
                <a:gridCol w="1751040"/>
                <a:gridCol w="17496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METO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TECNIC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FUENT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mpleabilidad de la carrer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blación me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es-CR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jeto de estud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06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ipo  de concepción curricula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308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isión y Mis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 la universida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 la carrer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sto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NA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rre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857160" y="122400"/>
          <a:ext cx="7500960" cy="669600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  <a:gridCol w="15001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PEC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METO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TECNIC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STRU-MEN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SIBLES FUENT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9ec2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mpleabilidad de la carrer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re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blación me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re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jeto de estud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re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6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ipo  de concepción curricul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re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ib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isión y Misió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 la universida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 la carrer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ermenéuti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ialecti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uí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os ofici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pues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for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isto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NAH 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rre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scrip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 reactivo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le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trevist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ichas manuales o vir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estionar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cumentos ofici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rsonas involucrad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1 Título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PASO 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Hagamos una carpeta  en  wor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Póngale título: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1" lang="es-ES" sz="2600" spc="-1" strike="noStrike">
                <a:solidFill>
                  <a:srgbClr val="ffffff"/>
                </a:solidFill>
                <a:latin typeface="Constantia"/>
              </a:rPr>
              <a:t>DIAGNÓSTICO  INTERN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7T13:25:50Z</dcterms:created>
  <dc:creator>Luis</dc:creator>
  <dc:description/>
  <dc:language>en-US</dc:language>
  <cp:lastModifiedBy>Sitio Vicerrectoría Académica</cp:lastModifiedBy>
  <dcterms:modified xsi:type="dcterms:W3CDTF">2018-03-21T21:47:21Z</dcterms:modified>
  <cp:revision>25</cp:revision>
  <dc:subject/>
  <dc:title>EL DIAGNÓSTICO EXTERNO</dc:title>
</cp:coreProperties>
</file>