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3A6-4EB6-4178-87E2-4B149AF5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7DD8-1BF0-46F8-A97D-80BA0CCB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571-744C-46C2-9334-6C228146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CF7-75B2-4722-9647-1557003A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317C0-6DDE-4ACF-891E-50F7A091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2C1E8-5577-4B37-8CE4-29B47CB9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1FD7A-BAAA-473F-BB4B-59F69D37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5A9E7-FE54-47E3-807B-0984C9A3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1C73F-A1F9-4F5F-BC25-521CDC66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30F07-B93C-484F-99CA-ED10AB68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6C30A-8967-4B4D-B595-160FA527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13A-AB12-48AF-AF32-26E824D4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2A0F9-9879-4D13-B767-628FA06B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E0CCA-6BAF-4864-ABBB-574E2CBD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381C2-5FB9-4F54-8905-59DBAC7F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89F93-814A-4E83-866B-64899EB3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F2C4C-1C68-438C-96E7-B8D1C2BA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AA8A7-BE69-4803-88B1-7F2FA4DE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F7590-B035-43F0-B156-5E603A9C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B6127-6FED-4631-BC35-9850FFD0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174D8-0449-4169-ADF6-554BF949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926CE-71D4-47AD-893D-9CA81902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5AA1-0EFC-4F83-8CD4-C95BFBA6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29CDE-EBB2-4B5C-A64B-A6503C6B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DB1E3-E944-4FAA-9C16-C7994AC2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ECED7-31C7-4A30-8C3C-C25C010A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CA0A3-E0B1-46C7-90BA-84192280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A6FC4-FECB-4483-A215-B63B380F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A0C8B-870D-4EEC-A37D-43C23327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590DA-7F38-4D50-AE34-16027B3A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3F08F0-A577-4DB5-931A-59F191B3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838B34-0AC5-45EA-8D47-087D6FFF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ACD82B-6C9F-4A4E-A6D5-5360A9BB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E8C6-4C1D-4F44-95CE-3F55A623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BCC418-3750-43CB-9307-6D9DF3CF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33F083-B887-4A7A-A0D2-387E9623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352CF9-79B5-4A12-8A15-0E203D1C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554A1A-2D8A-4F29-884B-5034D6B2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6DFAEA-B2C4-4E1A-945A-64E90E60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5C7F93-C860-473F-82A6-F46A35A2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5BB304-F9FE-4779-B2CB-3128CC55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D4660E-CC8D-42DA-849E-27E56C83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4BB959-EE44-466E-B92A-880E801C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2D63-4CF8-414E-8A78-B240C937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B14-5738-4CF6-942F-E6705B7B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3C2-954A-47B9-8E52-55E98376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2201-DA87-4D38-B5D9-CEDE2C47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F90C-D429-43F8-9B97-DD6BA2B7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3620-6812-4A91-ABC0-F889F4ECD80A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1C8C-8349-4CCA-90D8-E023E4592A7D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2C58-D8F5-41FD-8A36-E96431B91A94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BEC8-8C27-4D4B-970C-2AC82E226DFA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onricardo2006@hotmail.co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onografias.com/trabajos11/empre/empre.shtml" TargetMode="External"/><Relationship Id="rId2" Type="http://schemas.openxmlformats.org/officeDocument/2006/relationships/hyperlink" Target="http://www.monografias.com/trabajos11/sercli/sercli.shtm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440"/>
            <a:ext cx="830592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9c85c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r. Luis Ricardo Villalobos Zamora</a:t>
            </a:r>
            <a:br>
              <a:rPr sz="2400"/>
            </a:br>
            <a:r>
              <a:rPr b="0" lang="es-ES" sz="2400" spc="-1" strike="noStrike" u="sng">
                <a:solidFill>
                  <a:srgbClr val="8e58b6"/>
                </a:solidFill>
                <a:uFillTx/>
                <a:latin typeface="Arial"/>
                <a:ea typeface="Arial"/>
                <a:hlinkClick r:id="rId1"/>
              </a:rPr>
              <a:t>donricardo2006@hotmail.com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el (+506 )8837 5773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1 Título" descr=""/>
          <p:cNvPicPr/>
          <p:nvPr/>
        </p:nvPicPr>
        <p:blipFill>
          <a:blip r:embed="rId2"/>
          <a:stretch/>
        </p:blipFill>
        <p:spPr>
          <a:xfrm>
            <a:off x="457200" y="1432080"/>
            <a:ext cx="83152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DENTRO DE LA CARPETA ANTERIOR ABRA   </a:t>
            </a:r>
            <a:r>
              <a:rPr b="1" lang="es-ES" sz="2600" spc="-1" strike="noStrike">
                <a:solidFill>
                  <a:srgbClr val="ff0000"/>
                </a:solidFill>
                <a:latin typeface="Constantia"/>
              </a:rPr>
              <a:t>SEIS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CARPETAS  Y PÓNGALES LOS SIGUIENTES NOMBR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ffffff"/>
                </a:solidFill>
                <a:latin typeface="Constantia"/>
              </a:rPr>
              <a:t>Empleabilidad de la carrera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ffffff"/>
                </a:solidFill>
                <a:latin typeface="Constantia"/>
              </a:rPr>
              <a:t>Población met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CR" sz="2600" spc="-1" strike="noStrike">
                <a:solidFill>
                  <a:srgbClr val="ffffff"/>
                </a:solidFill>
                <a:latin typeface="Constantia"/>
              </a:rPr>
              <a:t>Objeto de estudi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Tipo  de concepción curricula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Visión y Misió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Historia (UNAH y carrera)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2 Título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5684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2 Título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1 Título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57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857160" y="1500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900" spc="-1" strike="noStrike">
                <a:solidFill>
                  <a:srgbClr val="ffffff"/>
                </a:solidFill>
                <a:latin typeface="Constantia"/>
              </a:rPr>
              <a:t>SUBDIMENSIONES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2.1 EMPLEABILIDAD DE LA CARRERA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Necesidades laborales y académicas en el país  que respalden la apertura o modificación de la carrera. Considerar el contexto socioeconómico y político del país y sustentarlo con datos estadísticos de la realidad naciona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2.2  OBJETO DE ESTUDIO O NATURALEZA DE LA CARRER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Debe ser evidenciado y conceptualizado con amplitud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2.3   POBLACIÓN MET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Especificar el campo ocupacional de los egresados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es-ES" sz="1600" spc="-1" strike="noStrike">
                <a:solidFill>
                  <a:srgbClr val="ffffff"/>
                </a:solidFill>
                <a:latin typeface="Constantia"/>
              </a:rPr>
              <a:t>Plantear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los intereses, motivaciones y expectativas de los y las  estudiantes y su relación con  la dimensión axiológica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Plantear la orientación humanista en la formación del estudi</a:t>
            </a:r>
            <a:r>
              <a:rPr b="0" lang="es-CR" sz="1600" spc="-1" strike="noStrike">
                <a:solidFill>
                  <a:srgbClr val="ffffff"/>
                </a:solidFill>
                <a:latin typeface="Constantia"/>
              </a:rPr>
              <a:t>antado</a:t>
            </a:r>
            <a:r>
              <a:rPr b="0" lang="es-CR" sz="16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1 Título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57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857160" y="149976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Arial"/>
                <a:ea typeface="Arial"/>
              </a:rPr>
              <a:t>SUBDIMENSION 2.5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Constantia"/>
              </a:rPr>
              <a:t>Enfoque curricular por competencia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2060"/>
                </a:solidFill>
                <a:latin typeface="Constantia"/>
              </a:rPr>
              <a:t>   </a:t>
            </a:r>
            <a:r>
              <a:rPr b="0" lang="es-CR" sz="2200" spc="-1" strike="noStrike">
                <a:solidFill>
                  <a:srgbClr val="002060"/>
                </a:solidFill>
                <a:latin typeface="Constantia"/>
              </a:rPr>
              <a:t>Sustenta la estructura del plan de estudios de la carrera, ( respalda la propuesta) y define aspectos tales como: metodología, estrategias de aprendizaje y evaluación de aprendizajes, que permitan identificar, tanto las características de aprendizaje de los estudiantes como la coherencia de los elementos del plan de estudios presentado</a:t>
            </a:r>
            <a:r>
              <a:rPr b="0" lang="es-CR" sz="2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Arial"/>
                <a:ea typeface="Arial"/>
              </a:rPr>
              <a:t>SUBDIMENSIÓN 2.6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Constantia"/>
              </a:rPr>
              <a:t>Historia 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Constantia"/>
              </a:rPr>
              <a:t>UNAH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es-CR" sz="2200" spc="-1" strike="noStrike">
                <a:solidFill>
                  <a:srgbClr val="002060"/>
                </a:solidFill>
                <a:latin typeface="Constantia"/>
              </a:rPr>
              <a:t>carrera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1 Título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57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857160" y="149976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SUBDIMENSION 2.5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,  </a:t>
            </a:r>
            <a:r>
              <a:rPr b="0" lang="es-CR" sz="24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3 Rectángulo"/>
          <p:cNvSpPr/>
          <p:nvPr/>
        </p:nvSpPr>
        <p:spPr>
          <a:xfrm>
            <a:off x="1143000" y="2500200"/>
            <a:ext cx="164304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2060"/>
                </a:solidFill>
                <a:latin typeface="Constantia"/>
              </a:rPr>
              <a:t>Visión</a:t>
            </a:r>
            <a:r>
              <a:rPr b="1" lang="es-ES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4 Rectángulo"/>
          <p:cNvSpPr/>
          <p:nvPr/>
        </p:nvSpPr>
        <p:spPr>
          <a:xfrm>
            <a:off x="3143160" y="2000160"/>
            <a:ext cx="492912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Es  el “SER “de la universid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y  la carrera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5 Rectángulo redondeado"/>
          <p:cNvSpPr/>
          <p:nvPr/>
        </p:nvSpPr>
        <p:spPr>
          <a:xfrm>
            <a:off x="3286080" y="285768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APORTA   EL “QUÉ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Responde a la pregunta ¿qué  es  la institución (o carrera) 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6 Rectángulo"/>
          <p:cNvSpPr/>
          <p:nvPr/>
        </p:nvSpPr>
        <p:spPr>
          <a:xfrm>
            <a:off x="1143000" y="4214880"/>
            <a:ext cx="17146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Mis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7 Rectángulo"/>
          <p:cNvSpPr/>
          <p:nvPr/>
        </p:nvSpPr>
        <p:spPr>
          <a:xfrm>
            <a:off x="3357720" y="3929040"/>
            <a:ext cx="4714560" cy="85716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Es  el propósito de  la universid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y de la carrera </a:t>
            </a: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8 Rectángulo redondeado"/>
          <p:cNvSpPr/>
          <p:nvPr/>
        </p:nvSpPr>
        <p:spPr>
          <a:xfrm>
            <a:off x="3214800" y="4929120"/>
            <a:ext cx="4786200" cy="1285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Aporta  el “ PARA  QUÉ”  .Responde a la pregunta ¿  para qué existe la universidad ( o la carrera)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9 Flecha arriba y abajo"/>
          <p:cNvSpPr/>
          <p:nvPr/>
        </p:nvSpPr>
        <p:spPr>
          <a:xfrm>
            <a:off x="1714680" y="3357720"/>
            <a:ext cx="500040" cy="857160"/>
          </a:xfrm>
          <a:prstGeom prst="upDownArrow">
            <a:avLst>
              <a:gd name="adj1" fmla="val 50000"/>
              <a:gd name="adj2" fmla="val 49997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5" name="11 Conector recto de flecha"/>
          <p:cNvCxnSpPr>
            <a:stCxn id="178" idx="3"/>
            <a:endCxn id="179" idx="1"/>
          </p:cNvCxnSpPr>
          <p:nvPr/>
        </p:nvCxnSpPr>
        <p:spPr>
          <a:xfrm flipV="1">
            <a:off x="2786040" y="2393280"/>
            <a:ext cx="357840" cy="500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6" name="13 Conector recto de flecha"/>
          <p:cNvCxnSpPr>
            <a:stCxn id="178" idx="3"/>
            <a:endCxn id="180" idx="1"/>
          </p:cNvCxnSpPr>
          <p:nvPr/>
        </p:nvCxnSpPr>
        <p:spPr>
          <a:xfrm>
            <a:off x="2785680" y="2894040"/>
            <a:ext cx="500760" cy="464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7" name="15 Conector recto de flecha"/>
          <p:cNvCxnSpPr>
            <a:stCxn id="181" idx="3"/>
          </p:cNvCxnSpPr>
          <p:nvPr/>
        </p:nvCxnSpPr>
        <p:spPr>
          <a:xfrm flipV="1">
            <a:off x="2857320" y="4285440"/>
            <a:ext cx="643320" cy="322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8" name="17 Conector recto de flecha"/>
          <p:cNvCxnSpPr>
            <a:stCxn id="181" idx="3"/>
          </p:cNvCxnSpPr>
          <p:nvPr/>
        </p:nvCxnSpPr>
        <p:spPr>
          <a:xfrm>
            <a:off x="2857320" y="4608000"/>
            <a:ext cx="286200" cy="964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Somos una exitosa </a:t>
            </a:r>
            <a:r>
              <a:rPr b="0" lang="es-ES" sz="2600" spc="-1" strike="noStrike" u="sng">
                <a:solidFill>
                  <a:srgbClr val="8e58b6"/>
                </a:solidFill>
                <a:uFillTx/>
                <a:latin typeface="Constantia"/>
                <a:hlinkClick r:id="rId1"/>
              </a:rPr>
              <a:t>empresa</a:t>
            </a: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 detallista de bienes y servicios, reconocida por su capacidad de generar bienestar para nuestros </a:t>
            </a:r>
            <a:r>
              <a:rPr b="0" lang="es-ES" sz="26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clientes</a:t>
            </a: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, colaboradores, accionistas, y nuestra comunidad en genera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04480" indent="-20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¿VISIÓN  o MISION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04480" indent="-20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Satisfacer a nuestros clientes, brindándoles, al mejor precio posible, productos y servicios de calidad, adecuados a sus necesidades; y exceder sus expectativas, sirviéndoles con esmero, originalidad, y atención a los detalles</a:t>
            </a:r>
            <a:r>
              <a:rPr b="0" lang="es-E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04480" indent="-20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¿VISIÓN  o MISION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04480" indent="-204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2 Título" descr=""/>
          <p:cNvPicPr/>
          <p:nvPr/>
        </p:nvPicPr>
        <p:blipFill>
          <a:blip r:embed="rId3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00040" y="15717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                                   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QUÉ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OC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2 Título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93" name="4 Rectángulo"/>
          <p:cNvSpPr/>
          <p:nvPr/>
        </p:nvSpPr>
        <p:spPr>
          <a:xfrm>
            <a:off x="3500280" y="1571760"/>
            <a:ext cx="4143600" cy="1000080"/>
          </a:xfrm>
          <a:prstGeom prst="rect">
            <a:avLst/>
          </a:prstGeom>
          <a:solidFill>
            <a:srgbClr val="e7bc29"/>
          </a:solidFill>
          <a:ln w="38160">
            <a:solidFill>
              <a:srgbClr val="aa89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Constantia"/>
              </a:rPr>
              <a:t>1.EMPLEABILIDAD DE LA CARRE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5 Rectángulo redondeado"/>
          <p:cNvSpPr/>
          <p:nvPr/>
        </p:nvSpPr>
        <p:spPr>
          <a:xfrm>
            <a:off x="4929120" y="4714920"/>
            <a:ext cx="1643040" cy="1571760"/>
          </a:xfrm>
          <a:prstGeom prst="roundRect">
            <a:avLst>
              <a:gd name="adj" fmla="val 16667"/>
            </a:avLst>
          </a:prstGeom>
          <a:solidFill>
            <a:srgbClr val="9c85c0"/>
          </a:solidFill>
          <a:ln w="38160">
            <a:solidFill>
              <a:srgbClr val="716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CR" sz="1800" spc="-1" strike="noStrike">
                <a:solidFill>
                  <a:srgbClr val="000000"/>
                </a:solidFill>
                <a:latin typeface="Constantia"/>
              </a:rPr>
              <a:t>3.OBJETO DE ESTUD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6 Rectángulo redondeado"/>
          <p:cNvSpPr/>
          <p:nvPr/>
        </p:nvSpPr>
        <p:spPr>
          <a:xfrm>
            <a:off x="6000840" y="2786040"/>
            <a:ext cx="2143080" cy="17146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Constantia"/>
              </a:rPr>
              <a:t>2.POBL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Constantia"/>
              </a:rPr>
              <a:t>M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7 Rectángulo redondeado"/>
          <p:cNvSpPr/>
          <p:nvPr/>
        </p:nvSpPr>
        <p:spPr>
          <a:xfrm>
            <a:off x="1214280" y="4786200"/>
            <a:ext cx="2214720" cy="1357560"/>
          </a:xfrm>
          <a:prstGeom prst="roundRect">
            <a:avLst>
              <a:gd name="adj" fmla="val 16667"/>
            </a:avLst>
          </a:prstGeom>
          <a:solidFill>
            <a:srgbClr val="809ec2"/>
          </a:solidFill>
          <a:ln w="38160">
            <a:solidFill>
              <a:srgbClr val="5c7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4.TIPO  DE CONCEPCIÓN CURRICU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8 Rectángulo redondeado"/>
          <p:cNvSpPr/>
          <p:nvPr/>
        </p:nvSpPr>
        <p:spPr>
          <a:xfrm>
            <a:off x="428760" y="3000240"/>
            <a:ext cx="2500200" cy="1500480"/>
          </a:xfrm>
          <a:prstGeom prst="roundRect">
            <a:avLst>
              <a:gd name="adj" fmla="val 16667"/>
            </a:avLst>
          </a:prstGeom>
          <a:solidFill>
            <a:srgbClr val="f3a447"/>
          </a:solidFill>
          <a:ln w="38160">
            <a:solidFill>
              <a:srgbClr val="b377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5.VISION Y MIS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nstantia"/>
              </a:rPr>
              <a:t>DE LA UNIVERSIDA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nstantia"/>
              </a:rPr>
              <a:t>DE LA CARRER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8" name="10 Conector recto de flecha"/>
          <p:cNvCxnSpPr/>
          <p:nvPr/>
        </p:nvCxnSpPr>
        <p:spPr>
          <a:xfrm flipV="1">
            <a:off x="4285080" y="2714040"/>
            <a:ext cx="2520" cy="5720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9" name="12 Conector recto de flecha"/>
          <p:cNvCxnSpPr/>
          <p:nvPr/>
        </p:nvCxnSpPr>
        <p:spPr>
          <a:xfrm>
            <a:off x="5143320" y="3714840"/>
            <a:ext cx="929160" cy="21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0" name="14 Conector recto de flecha"/>
          <p:cNvCxnSpPr/>
          <p:nvPr/>
        </p:nvCxnSpPr>
        <p:spPr>
          <a:xfrm>
            <a:off x="5214600" y="4286160"/>
            <a:ext cx="572040" cy="3578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1" name="19 Conector recto de flecha"/>
          <p:cNvCxnSpPr/>
          <p:nvPr/>
        </p:nvCxnSpPr>
        <p:spPr>
          <a:xfrm flipH="1" flipV="1">
            <a:off x="3000240" y="3642480"/>
            <a:ext cx="643320" cy="2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21 Conector recto de flecha"/>
          <p:cNvCxnSpPr/>
          <p:nvPr/>
        </p:nvCxnSpPr>
        <p:spPr>
          <a:xfrm flipH="1">
            <a:off x="3428280" y="4428720"/>
            <a:ext cx="429480" cy="4294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3" name="15 Conector recto de flecha"/>
          <p:cNvCxnSpPr/>
          <p:nvPr/>
        </p:nvCxnSpPr>
        <p:spPr>
          <a:xfrm flipH="1" flipV="1">
            <a:off x="3142800" y="2785320"/>
            <a:ext cx="572400" cy="4294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4" name="16 Rectángulo redondeado"/>
          <p:cNvSpPr/>
          <p:nvPr/>
        </p:nvSpPr>
        <p:spPr>
          <a:xfrm>
            <a:off x="857160" y="1643040"/>
            <a:ext cx="2357640" cy="1071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6.Historia</a:t>
            </a: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Univers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carr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1143000" y="428760"/>
          <a:ext cx="7000920" cy="6065640"/>
        </p:xfrm>
        <a:graphic>
          <a:graphicData uri="http://schemas.openxmlformats.org/drawingml/2006/table">
            <a:tbl>
              <a:tblPr/>
              <a:tblGrid>
                <a:gridCol w="1751040"/>
                <a:gridCol w="1749240"/>
                <a:gridCol w="1751040"/>
                <a:gridCol w="17496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METO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TECNIC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FUENT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mpleabilidad de la carrer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blación me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jeto de estud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0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ipo  de concepción curricula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308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isión y Mis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 la universida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 la carrer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sto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NA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rre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857160" y="122400"/>
          <a:ext cx="7500960" cy="669600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  <a:gridCol w="15001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METO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TECNIC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STRU-MEN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FUENT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mpleabilidad de la carrer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re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blación me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re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jeto de estud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re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6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ipo  de concepción curricul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re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isión y Misió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 la universida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 la carrer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rmenéuti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alecti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uí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os ofici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sto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NAH 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rre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reactivo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le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trevist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estionar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os ofici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s involucrad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1 Título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PASO 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Hagamos una carpeta  en  wor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Póngale título: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DIAGNÓSTICO  INTERN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7T13:25:50Z</dcterms:created>
  <dc:creator>Luis</dc:creator>
  <dc:description/>
  <dc:language>en-US</dc:language>
  <cp:lastModifiedBy>Sitio Vicerrectoría Académica</cp:lastModifiedBy>
  <dcterms:modified xsi:type="dcterms:W3CDTF">2018-03-21T21:47:21Z</dcterms:modified>
  <cp:revision>25</cp:revision>
  <dc:subject/>
  <dc:title>EL DIAGNÓSTICO EXTERNO</dc:title>
</cp:coreProperties>
</file>