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5AB-27DE-4565-9E2D-9D72E0CA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104-FE17-42E9-A80C-411ABC9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45A-2DF0-4D9D-B8D7-D3270470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9B3-F794-465E-BB1C-565B7DBD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72CB4-0163-4E04-BA09-3553E896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2B2B-BF11-4155-9FC9-5D545D4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035E-3D45-4779-BE61-78C1866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E8A7-1352-47C7-AC6E-A7C741A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D4082-8739-4BFD-9903-49E6D78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22B3-1AE1-4453-820F-1B83C34C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F0A03-5097-4F03-A32D-5620636F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16F-AA87-4050-A5B4-9754626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C6230-01B6-45E0-B34E-3DB8C74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4ECA8-0286-46A1-972D-63D74E8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3F5E5-E544-49B0-8011-46AE0272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91E45-1DDF-45E5-AD8C-9BDB452A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A5863-3A05-4468-B3B2-210C2AFF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7F35-4B66-4DCB-8E80-450E42DF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73DF-6A5C-4F4E-816F-F1A6B01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D20F-97EA-4C56-B2B2-EBEDC6C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71F7-9A75-4B4A-91BC-183BFDA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D249-CCEC-4DE9-B5FA-B8EFA3F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BC0-A3AD-4FAC-8D91-04A9A1C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7758-DC00-4A59-B198-1441E3E8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AD8B-F3BC-4452-A771-643429FD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AB99-9C7D-453B-86F1-8F5B45A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A156-B2C2-44A9-95D1-C5D5029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EA08-105D-4115-81FE-F9C3866C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349F-6F50-4377-AF50-6555855A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D535-98DE-4806-8E0C-54E8DDC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DFE19-FAE0-4B45-9C4A-993AE7EA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B57E9-9D2D-45C3-B747-47C0F10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113D6-7775-4586-8DA3-FF165BA3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DFB-0D15-431C-B922-16ED418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B4601-ACBE-4529-BD6D-BA75A82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5EFD7-2BEE-4602-8B82-595AFCD2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301E6-EDBA-4F07-8520-99D1169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1832E-AA61-4343-BBB5-A9CBF32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1FF4A-9A1F-4CDA-BE1A-9DC23A6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DBCB1-F4F1-4B54-BA89-EE3B084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02C34-26E3-4E41-8866-4C22470B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96E17-C087-4485-86BD-C7F11AA7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D6707-2609-4261-B8F3-7E9558CF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6DB-4EC5-4DEF-B3D2-465597F1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6A9-5AED-4FA7-9CAC-9F96F8B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0F7-F4B1-4941-8238-6951D52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BB4-F7DA-4338-94BC-D267548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F5E-F14A-4C6C-BBFD-862E4BA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2E4-6CCD-4A1B-ACA5-E3A4DCD8CBE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033-0F95-45D5-851B-0A1BEF49E2B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29C-DA72-4309-BE10-1087722F905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14D-3CA8-486B-AF38-D3D0430D2ACE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82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381880" cy="1266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Constantia"/>
              </a:rPr>
              <a:t>¿QUÉ CONOCE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2 ¿Para qué sirve en nuestra sociedad ?    (Referentes universales y referentes nacionales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Las tendencias actuales de 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3.Otros diseños similares extranjeros y nacion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85920" y="0"/>
          <a:ext cx="6095880" cy="6218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57160" y="142920"/>
          <a:ext cx="7500960" cy="658332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 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étodos   de  los enfoques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écnicas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mentos 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51640" cy="1231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EX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CINCO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1. Justificación de la carrera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Tendencias actuales de  la disciplin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3. Diseños similares extranjeros y nacional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4. Demandas sociales  (contexto mundial y nacional 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5. Aspectos  conceptual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INDICACIÓN  IMPORTANTE  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labore una ficha por  aspecto particular investigad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a. Inserte una tabla  con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dos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columnas  y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cinco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 línea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b. Rotúlelas de la siguiente manera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614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500120" y="3357720"/>
          <a:ext cx="6096240" cy="322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UBDIMENSIÓN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DAMENTACIÓN DE LA CARR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R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ferencias bibliográf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  nombre de la publicación editorial,  Nº de edición, ciudad , país, añ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ta (textual o contex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rección electrón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 el taller siguiendo las indicaciones dadas por el facilitad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Luis</cp:lastModifiedBy>
  <dcterms:modified xsi:type="dcterms:W3CDTF">2018-03-18T16:40:22Z</dcterms:modified>
  <cp:revision>12</cp:revision>
  <dc:subject/>
  <dc:title>EL DIAGNÓSTICO EXTERNO</dc:title>
</cp:coreProperties>
</file>