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04A-AF89-40FB-AE42-3D753621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1DF-54AB-4442-B3FA-EF645CC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6B0-E426-4E4E-AD71-CFA2300F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F73-5730-4B1C-9857-D4DBA022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61D-1383-40CB-8616-F779019C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2358-C660-4847-A463-9FDB7623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F1BA-51BB-48EB-B73D-80AA6B1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B8D-F990-40CC-80E9-006208E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1CB8-90F8-4112-B028-5A075ED9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094-1C46-4CBC-B2EA-F54082DE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E19-B810-4E0F-8507-532D885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A90-19CD-4D6D-9A23-D14A9B5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D958-A796-41B0-8F1A-71B0246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A4C7-6FD5-48EA-A0D0-80AE752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33E-1ACC-4636-ACC7-156C09D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2D0-5B1A-4991-9704-0AB2B9F2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213E-76AA-4105-8A1E-028D7D8A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09B7-6C2A-4095-A4AB-A4ECC6D8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A482-0328-4860-98E1-866F5335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93B0-6571-4473-B8C4-81C3BFD8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5365-EACF-4BFC-B121-1DDDBC7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D66C-EF55-4285-8ADA-F61F866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9C5-8F13-487C-995B-5D597AB2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45D-071E-49F9-A729-71A343A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B110-02DE-4930-AACC-A07339A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5DA0-EA69-4E73-87BD-3BC8D80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6D60-D01B-4610-9B62-51167D1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1B4E-5E2A-46B0-B1EC-8D70A59D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5F9D-84F1-4573-A213-70EE8E6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B1C1-6EC4-4C94-943A-589D1B6C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DFFB-B2BE-4994-B69A-68F7B38D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1561A-6BE6-440E-A2EC-B023326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864A-992D-4381-8C2D-DC45F37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71B-DFBA-4A0D-89C0-6C31B1A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B76B-1448-4482-BB09-05D05CF4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B067-7C59-42D3-A373-BA8B56A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BC45-3DBC-4A93-9D1E-59501B4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E7B2-D71D-4AF4-9ABC-8831B29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FA21-CF20-4D18-99A5-39020A5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EF63-F2C3-4B71-B2DF-644E070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3D51-F709-4FA5-8A11-000DE3F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918F-3C9D-4FBD-B76F-16BBC53E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670B-0F27-4ACC-A18B-8CCF9FF7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4517-7F18-475B-8D7F-B9A5EB5D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3DB-AA44-44FF-A010-BBB6E95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DEE6-197A-4CAD-B761-D648FE72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42E4-9E94-4C3D-BAE6-96C83B9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AC1F-0DDC-4686-A808-30FB682E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1AF5-F718-43F1-89B8-606E0C9F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3195-B17B-470E-9F54-820286C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6E1D-C60D-468C-9A44-671AE58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ACB28-2C75-484B-A3E7-9D6E7BE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8F821-2A5F-4826-8BC2-EEC531A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CF3A-EF02-4D92-ABB8-21084E2B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3711-C677-4FFE-BAC1-38F07409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C01-0237-47AA-BE50-6CA1289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3AF1C-FA2B-4430-8636-AB24EB17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CFA-92D3-4E99-A42C-A7E04A3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D15-83F3-4488-A2AC-8B5F6569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188-EA4F-4D19-99B2-F8BF423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7AE-2E2C-4548-8903-719A9C4EE83C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FB5C-6488-40E4-BB3D-BBCEAE3D1032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E3D-87D3-4E8A-AAE2-7E5457B1AC83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489-21A8-4A3B-9EB2-234651E97419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0A5-6E0E-40F3-AE6F-F0FCC14958C1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wrence_Stenhous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R. LUIS RICARDO VILLALOBOS ZAMORA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onricardo2006@hotmail 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Tel. (+506) 8837577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6840" y="1714680"/>
            <a:ext cx="79009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FILTROS HISTÓRICOS, PSICOLÓGICOS , POLÍTICOS   permiten en nuestro diseño curricular  la definición de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fundamentac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erfil profesion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lan de estudi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ol del personal docente y del estudiantado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Tipo de gest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ecurso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Trebuchet MS"/>
              </a:rPr>
              <a:t>Permiten darle identificación  a nuestro diseño curricula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R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ACADÉ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s conte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COG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83d68"/>
                </a:solidFill>
                <a:latin typeface="Trebuchet MS"/>
              </a:rPr>
              <a:t>Pia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apacidades cognitiv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Información por medio de tecnología para producir 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9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0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1" name="21 Conector recto de flecha"/>
          <p:cNvCxnSpPr>
            <a:stCxn id="310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2" name="25 Conector recto de flecha"/>
          <p:cNvCxnSpPr>
            <a:stCxn id="312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3" name="32 Conector recto de flecha"/>
          <p:cNvCxnSpPr>
            <a:stCxn id="315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4" name="35 Conector recto de flecha"/>
          <p:cNvCxnSpPr>
            <a:endCxn id="313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25" name="37 Flecha curvada hacia la izquierda"/>
          <p:cNvSpPr/>
          <p:nvPr/>
        </p:nvSpPr>
        <p:spPr>
          <a:xfrm>
            <a:off x="8501040" y="3357720"/>
            <a:ext cx="642960" cy="1071360"/>
          </a:xfrm>
          <a:custGeom>
            <a:avLst/>
            <a:gdLst>
              <a:gd name="textAreaLeft" fmla="*/ 86040 w 642960"/>
              <a:gd name="textAreaRight" fmla="*/ 556920 w 642960"/>
              <a:gd name="textAreaTop" fmla="*/ 207360 h 1071360"/>
              <a:gd name="textAreaBottom" fmla="*/ 7833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 PERSONALIZ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NECESIDADES DE L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DE RECONSTRUCCIO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Agente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CONTEXT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POR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GRO DE COMPET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MAESTRO MEDI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7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8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9" name="21 Conector recto de flecha"/>
          <p:cNvCxnSpPr>
            <a:stCxn id="328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0" name="25 Conector recto de flecha"/>
          <p:cNvCxnSpPr>
            <a:stCxn id="330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32 Conector recto de flecha"/>
          <p:cNvCxnSpPr>
            <a:stCxn id="333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2" name="35 Conector recto de flecha"/>
          <p:cNvCxnSpPr>
            <a:endCxn id="331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43" name="37 Flecha curvada hacia la izquierda"/>
          <p:cNvSpPr/>
          <p:nvPr/>
        </p:nvSpPr>
        <p:spPr>
          <a:xfrm>
            <a:off x="8572680" y="3357720"/>
            <a:ext cx="571320" cy="1071360"/>
          </a:xfrm>
          <a:custGeom>
            <a:avLst/>
            <a:gdLst>
              <a:gd name="textAreaLeft" fmla="*/ 76320 w 571320"/>
              <a:gd name="textAreaRight" fmla="*/ 495000 w 571320"/>
              <a:gd name="textAreaTop" fmla="*/ 214200 h 1071360"/>
              <a:gd name="textAreaBottom" fmla="*/ 7858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3429472"/>
                <a:lnTo>
                  <a:pt x="5400" y="21326"/>
                </a:lnTo>
                <a:lnTo>
                  <a:pt x="0" y="18720"/>
                </a:lnTo>
                <a:lnTo>
                  <a:pt x="5400" y="15566"/>
                </a:lnTo>
                <a:lnTo>
                  <a:pt x="5400" y="17006"/>
                </a:lnTo>
                <a:arcTo wR="21600" hR="8640" stAng="3429472" swAng="-3197391"/>
                <a:lnTo>
                  <a:pt x="21298" y="10080"/>
                </a:lnTo>
                <a:arcTo wR="21600" hR="8640" stAng="-232081" swAng="-5167919"/>
                <a:close/>
              </a:path>
              <a:path fill="darkenLess"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-232081"/>
                <a:lnTo>
                  <a:pt x="21298" y="10080"/>
                </a:lnTo>
                <a:arcTo wR="21600" hR="8640" stAng="-232081" swAng="-5167919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6 Rectángulo redondeado"/>
          <p:cNvSpPr/>
          <p:nvPr/>
        </p:nvSpPr>
        <p:spPr>
          <a:xfrm>
            <a:off x="3286080" y="2643120"/>
            <a:ext cx="3071880" cy="135756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LIB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 Elipse"/>
          <p:cNvSpPr/>
          <p:nvPr/>
        </p:nvSpPr>
        <p:spPr>
          <a:xfrm>
            <a:off x="7358040" y="25002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 Elipse"/>
          <p:cNvSpPr/>
          <p:nvPr/>
        </p:nvSpPr>
        <p:spPr>
          <a:xfrm>
            <a:off x="6357960" y="364320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DESARROLLO DE ACTOS REFLEX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LA CRÍTICA IDE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Estrella de 6 puntas"/>
          <p:cNvSpPr/>
          <p:nvPr/>
        </p:nvSpPr>
        <p:spPr>
          <a:xfrm>
            <a:off x="0" y="3214800"/>
            <a:ext cx="278604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6 Conector recto de flecha"/>
          <p:cNvCxnSpPr>
            <a:endCxn id="346" idx="1"/>
          </p:cNvCxnSpPr>
          <p:nvPr/>
        </p:nvCxnSpPr>
        <p:spPr>
          <a:xfrm flipV="1">
            <a:off x="2643120" y="3322440"/>
            <a:ext cx="643320" cy="24984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3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4" name="25 Conector recto de flecha"/>
          <p:cNvCxnSpPr/>
          <p:nvPr/>
        </p:nvCxnSpPr>
        <p:spPr>
          <a:xfrm>
            <a:off x="6428880" y="2857680"/>
            <a:ext cx="100116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5" name="32 Conector recto de flecha"/>
          <p:cNvCxnSpPr>
            <a:stCxn id="349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6" name="35 Conector recto de flecha"/>
          <p:cNvCxnSpPr/>
          <p:nvPr/>
        </p:nvCxnSpPr>
        <p:spPr>
          <a:xfrm flipV="1">
            <a:off x="6500880" y="3071160"/>
            <a:ext cx="929520" cy="39420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57" name="37 Flecha curvada hacia la izquierda"/>
          <p:cNvSpPr/>
          <p:nvPr/>
        </p:nvSpPr>
        <p:spPr>
          <a:xfrm>
            <a:off x="8501040" y="2714760"/>
            <a:ext cx="642960" cy="1285920"/>
          </a:xfrm>
          <a:custGeom>
            <a:avLst/>
            <a:gdLst>
              <a:gd name="textAreaLeft" fmla="*/ 86040 w 642960"/>
              <a:gd name="textAreaRight" fmla="*/ 556920 w 642960"/>
              <a:gd name="textAreaTop" fmla="*/ 261000 h 1285920"/>
              <a:gd name="textAreaBottom" fmla="*/ 944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1071720" y="1214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500040" y="1792440"/>
            <a:ext cx="421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000000"/>
                </a:solidFill>
                <a:latin typeface="Arial"/>
              </a:rPr>
              <a:t>¿QUÉ ES  CURRÍCULO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785880" y="4287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Arial"/>
              </a:rPr>
              <a:t>¿QUÉ ES EL CURRÍ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1071720" y="12142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definiciones claras y precisas de currículo ha sido difícil, porque hay tantas definiciones como autores han estudiado el tema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1 Recortar rectángulo de esquina diagonal"/>
          <p:cNvSpPr/>
          <p:nvPr/>
        </p:nvSpPr>
        <p:spPr>
          <a:xfrm>
            <a:off x="785880" y="928800"/>
            <a:ext cx="2428920" cy="242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 sus orígenes se asociaba a lo que debía enseñarse en las escuelas (referencia exclusiva contenidos de las disciplinas y  plan de estudios de una  ma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 Recortar rectángulo de esquina diagonal"/>
          <p:cNvSpPr/>
          <p:nvPr/>
        </p:nvSpPr>
        <p:spPr>
          <a:xfrm>
            <a:off x="4357800" y="1000080"/>
            <a:ext cx="342900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Sthenhouse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 (1987)  lo asocia el a la realidad escolar, por tanto no sólo es intención, sino la relación existente entre las aspiraciones y las tentativas por hacerlas operativas en la escuela: el modo de llevar a cabo dichos propósitos y el modo de hace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Nube"/>
          <p:cNvSpPr/>
          <p:nvPr/>
        </p:nvSpPr>
        <p:spPr>
          <a:xfrm>
            <a:off x="2286000" y="3000240"/>
            <a:ext cx="2928960" cy="1500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¿Currícul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4 Recortar rectángulo de esquina diagonal"/>
          <p:cNvSpPr/>
          <p:nvPr/>
        </p:nvSpPr>
        <p:spPr>
          <a:xfrm>
            <a:off x="500040" y="3714840"/>
            <a:ext cx="2786040" cy="29289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o una construcción cultural ( su estudio no puede separarse de la interacción humana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um no existe a priori, sino es un producto hum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Toda actividad humana, conlleva  un concepto particular de ser humano  y de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 Recortar rectángulo de esquina diagonal"/>
          <p:cNvSpPr/>
          <p:nvPr/>
        </p:nvSpPr>
        <p:spPr>
          <a:xfrm>
            <a:off x="4929120" y="3500280"/>
            <a:ext cx="3214800" cy="32148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rredondo (1981): resultado de a) el análisis y reflexión sobre las características del contexto, del educando y de los recursos; b) la definición de los fines y los objetivos educativos; c) la especificación de medios y  procedimientos para asignar los recursos humanos, materiales, informativos, financieros, temporales y organizativos  para el logro los fines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4 Rectángulo redondeado"/>
          <p:cNvSpPr/>
          <p:nvPr/>
        </p:nvSpPr>
        <p:spPr>
          <a:xfrm>
            <a:off x="285840" y="307188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2c4a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3d68"/>
                </a:solidFill>
                <a:latin typeface="Trebuchet MS"/>
              </a:rPr>
              <a:t>HAB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3214800" y="3500280"/>
            <a:ext cx="4429080" cy="928800"/>
          </a:xfrm>
          <a:prstGeom prst="rect">
            <a:avLst/>
          </a:prstGeom>
          <a:solidFill>
            <a:srgbClr val="d9d9d9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IA DE LOS INTERES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1 Elipse"/>
          <p:cNvSpPr/>
          <p:nvPr/>
        </p:nvSpPr>
        <p:spPr>
          <a:xfrm>
            <a:off x="1071720" y="4786200"/>
            <a:ext cx="207144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Elipse"/>
          <p:cNvSpPr/>
          <p:nvPr/>
        </p:nvSpPr>
        <p:spPr>
          <a:xfrm>
            <a:off x="5786280" y="4857840"/>
            <a:ext cx="2286000" cy="100008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PR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3 Elipse"/>
          <p:cNvSpPr/>
          <p:nvPr/>
        </p:nvSpPr>
        <p:spPr>
          <a:xfrm>
            <a:off x="3500280" y="4929120"/>
            <a:ext cx="1928880" cy="928800"/>
          </a:xfrm>
          <a:prstGeom prst="ellipse">
            <a:avLst/>
          </a:prstGeom>
          <a:solidFill>
            <a:srgbClr val="92d050"/>
          </a:solidFill>
          <a:ln w="39960">
            <a:solidFill>
              <a:srgbClr val="7d4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5 Hexágono"/>
          <p:cNvSpPr/>
          <p:nvPr/>
        </p:nvSpPr>
        <p:spPr>
          <a:xfrm>
            <a:off x="2071800" y="5786280"/>
            <a:ext cx="4857480" cy="85752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OBTENCION DEL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3 Flecha a la derecha con bandas"/>
          <p:cNvSpPr/>
          <p:nvPr/>
        </p:nvSpPr>
        <p:spPr>
          <a:xfrm flipV="1">
            <a:off x="2571840" y="3500280"/>
            <a:ext cx="714240" cy="500400"/>
          </a:xfrm>
          <a:prstGeom prst="pi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18 Conector recto de flecha"/>
          <p:cNvCxnSpPr/>
          <p:nvPr/>
        </p:nvCxnSpPr>
        <p:spPr>
          <a:xfrm flipH="1">
            <a:off x="2999880" y="4428000"/>
            <a:ext cx="1643760" cy="500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21 Conector recto de flecha"/>
          <p:cNvCxnSpPr/>
          <p:nvPr/>
        </p:nvCxnSpPr>
        <p:spPr>
          <a:xfrm flipH="1">
            <a:off x="4642560" y="4357800"/>
            <a:ext cx="1080" cy="645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28 Conector recto de flecha"/>
          <p:cNvCxnSpPr/>
          <p:nvPr/>
        </p:nvCxnSpPr>
        <p:spPr>
          <a:xfrm>
            <a:off x="4714560" y="44287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30 Sol"/>
          <p:cNvSpPr/>
          <p:nvPr/>
        </p:nvSpPr>
        <p:spPr>
          <a:xfrm>
            <a:off x="3143160" y="1000080"/>
            <a:ext cx="4357800" cy="2286000"/>
          </a:xfrm>
          <a:prstGeom prst="sun">
            <a:avLst>
              <a:gd name="adj" fmla="val 25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DUCTO O PRAXIS DEL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41852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3 Rectángulo redondeado"/>
          <p:cNvSpPr/>
          <p:nvPr/>
        </p:nvSpPr>
        <p:spPr>
          <a:xfrm>
            <a:off x="1071720" y="1714680"/>
            <a:ext cx="6715080" cy="714240"/>
          </a:xfrm>
          <a:prstGeom prst="roundRect">
            <a:avLst>
              <a:gd name="adj" fmla="val 16667"/>
            </a:avLst>
          </a:prstGeom>
          <a:solidFill>
            <a:srgbClr val="f8e2d7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 DE LOS INTERESE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4 Rectángulo redondeado"/>
          <p:cNvSpPr/>
          <p:nvPr/>
        </p:nvSpPr>
        <p:spPr>
          <a:xfrm>
            <a:off x="4214880" y="3071880"/>
            <a:ext cx="3571920" cy="1500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eses humano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Son aquellas orientaciones fundamentales de la especie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6 Nube"/>
          <p:cNvSpPr/>
          <p:nvPr/>
        </p:nvSpPr>
        <p:spPr>
          <a:xfrm>
            <a:off x="357120" y="2786040"/>
            <a:ext cx="3143160" cy="31431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Interés máxi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Conocer (para sobre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Elipse"/>
          <p:cNvSpPr/>
          <p:nvPr/>
        </p:nvSpPr>
        <p:spPr>
          <a:xfrm>
            <a:off x="3286080" y="5072040"/>
            <a:ext cx="1857600" cy="1643040"/>
          </a:xfrm>
          <a:prstGeom prst="ellipse">
            <a:avLst/>
          </a:prstGeom>
          <a:solidFill>
            <a:srgbClr val="cf6da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RODU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8 Elipse"/>
          <p:cNvSpPr/>
          <p:nvPr/>
        </p:nvSpPr>
        <p:spPr>
          <a:xfrm>
            <a:off x="5286240" y="5000760"/>
            <a:ext cx="1857600" cy="17143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ÁC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9 Elipse"/>
          <p:cNvSpPr/>
          <p:nvPr/>
        </p:nvSpPr>
        <p:spPr>
          <a:xfrm>
            <a:off x="7215120" y="4929120"/>
            <a:ext cx="1928880" cy="1714680"/>
          </a:xfrm>
          <a:prstGeom prst="ellipse">
            <a:avLst/>
          </a:prstGeom>
          <a:solidFill>
            <a:srgbClr val="de6c3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TRANSFORMAR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11 Conector recto de flecha"/>
          <p:cNvCxnSpPr>
            <a:endCxn id="255" idx="0"/>
          </p:cNvCxnSpPr>
          <p:nvPr/>
        </p:nvCxnSpPr>
        <p:spPr>
          <a:xfrm flipH="1">
            <a:off x="4214520" y="4642920"/>
            <a:ext cx="35784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13 Conector recto de flecha"/>
          <p:cNvCxnSpPr>
            <a:endCxn id="256" idx="0"/>
          </p:cNvCxnSpPr>
          <p:nvPr/>
        </p:nvCxnSpPr>
        <p:spPr>
          <a:xfrm flipH="1">
            <a:off x="6214680" y="4573080"/>
            <a:ext cx="216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15 Conector recto de flecha"/>
          <p:cNvCxnSpPr/>
          <p:nvPr/>
        </p:nvCxnSpPr>
        <p:spPr>
          <a:xfrm>
            <a:off x="7429680" y="4572000"/>
            <a:ext cx="3578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16 Flecha a la derecha con bandas"/>
          <p:cNvSpPr/>
          <p:nvPr/>
        </p:nvSpPr>
        <p:spPr>
          <a:xfrm>
            <a:off x="2786040" y="3643200"/>
            <a:ext cx="1428840" cy="571680"/>
          </a:xfrm>
          <a:prstGeom prst="pie">
            <a:avLst/>
          </a:prstGeom>
          <a:solidFill>
            <a:srgbClr val="000000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5214960" y="1785960"/>
            <a:ext cx="3143160" cy="714240"/>
          </a:xfrm>
          <a:prstGeom prst="rect">
            <a:avLst/>
          </a:prstGeom>
          <a:solidFill>
            <a:srgbClr val="852f7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Relaciones de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Rectángulo"/>
          <p:cNvSpPr/>
          <p:nvPr/>
        </p:nvSpPr>
        <p:spPr>
          <a:xfrm>
            <a:off x="5929200" y="3286080"/>
            <a:ext cx="3214800" cy="2000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al producto y reacción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Resultado :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des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desarrollo  de  la inteli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6 Rectángulo"/>
          <p:cNvSpPr/>
          <p:nvPr/>
        </p:nvSpPr>
        <p:spPr>
          <a:xfrm>
            <a:off x="2571840" y="5643720"/>
            <a:ext cx="4143240" cy="857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diseñado con objetivos de aprendizaje y una estructura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57120" y="3286080"/>
            <a:ext cx="1928880" cy="264312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positiv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producto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eficientes y efica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Nube"/>
          <p:cNvSpPr/>
          <p:nvPr/>
        </p:nvSpPr>
        <p:spPr>
          <a:xfrm>
            <a:off x="1643040" y="928800"/>
            <a:ext cx="2214720" cy="1428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4" name="15 Conector recto de flecha"/>
          <p:cNvCxnSpPr/>
          <p:nvPr/>
        </p:nvCxnSpPr>
        <p:spPr>
          <a:xfrm>
            <a:off x="3285000" y="2214720"/>
            <a:ext cx="429480" cy="1072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20 Conector recto de flecha"/>
          <p:cNvCxnSpPr/>
          <p:nvPr/>
        </p:nvCxnSpPr>
        <p:spPr>
          <a:xfrm>
            <a:off x="5286240" y="3929040"/>
            <a:ext cx="5724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25 Conector recto de flecha"/>
          <p:cNvCxnSpPr/>
          <p:nvPr/>
        </p:nvCxnSpPr>
        <p:spPr>
          <a:xfrm flipH="1" flipV="1">
            <a:off x="2285280" y="3928680"/>
            <a:ext cx="85788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4 Rectángulo"/>
          <p:cNvSpPr/>
          <p:nvPr/>
        </p:nvSpPr>
        <p:spPr>
          <a:xfrm>
            <a:off x="4786200" y="1643040"/>
            <a:ext cx="3143520" cy="714240"/>
          </a:xfrm>
          <a:prstGeom prst="rect">
            <a:avLst/>
          </a:prstGeom>
          <a:solidFill>
            <a:srgbClr val="00b050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Promueve la reflexión y la elaboración de ju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Rectángulo"/>
          <p:cNvSpPr/>
          <p:nvPr/>
        </p:nvSpPr>
        <p:spPr>
          <a:xfrm>
            <a:off x="5929200" y="2571840"/>
            <a:ext cx="3214800" cy="292896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 a procesos e interpretación  de situaciones para dar sentido a la acción re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l “significado” de la experiencia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la pertinencia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 Rectángulo"/>
          <p:cNvSpPr/>
          <p:nvPr/>
        </p:nvSpPr>
        <p:spPr>
          <a:xfrm>
            <a:off x="2571840" y="5572080"/>
            <a:ext cx="4143240" cy="107172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busca la comprensión de la realidad  y el cuestionamiento de la  práctica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Huma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la acción sobre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(proc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 incorpora  al ser humano en su entorno 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Nube"/>
          <p:cNvSpPr/>
          <p:nvPr/>
        </p:nvSpPr>
        <p:spPr>
          <a:xfrm>
            <a:off x="1357200" y="857160"/>
            <a:ext cx="221472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PRÁC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5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15 Conector recto de flecha"/>
          <p:cNvCxnSpPr/>
          <p:nvPr/>
        </p:nvCxnSpPr>
        <p:spPr>
          <a:xfrm flipV="1">
            <a:off x="5357520" y="3859200"/>
            <a:ext cx="572040" cy="7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21 Conector recto de flecha"/>
          <p:cNvCxnSpPr/>
          <p:nvPr/>
        </p:nvCxnSpPr>
        <p:spPr>
          <a:xfrm flipH="1" flipV="1">
            <a:off x="2428200" y="392868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23 Conector recto de flecha"/>
          <p:cNvCxnSpPr/>
          <p:nvPr/>
        </p:nvCxnSpPr>
        <p:spPr>
          <a:xfrm>
            <a:off x="3000240" y="2286000"/>
            <a:ext cx="6433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3 Estrella de 7 puntas"/>
          <p:cNvSpPr/>
          <p:nvPr/>
        </p:nvSpPr>
        <p:spPr>
          <a:xfrm>
            <a:off x="2643120" y="3000240"/>
            <a:ext cx="314316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CURRICULAR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Rectángulo"/>
          <p:cNvSpPr/>
          <p:nvPr/>
        </p:nvSpPr>
        <p:spPr>
          <a:xfrm>
            <a:off x="5000760" y="1643040"/>
            <a:ext cx="3143160" cy="714240"/>
          </a:xfrm>
          <a:prstGeom prst="rect">
            <a:avLst/>
          </a:prstGeom>
          <a:solidFill>
            <a:srgbClr val="e36406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una acción que modifica el mundo tanto como la comprensión sobre el mund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Rectángulo"/>
          <p:cNvSpPr/>
          <p:nvPr/>
        </p:nvSpPr>
        <p:spPr>
          <a:xfrm>
            <a:off x="5929200" y="2643120"/>
            <a:ext cx="3214800" cy="235764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Orientado  a la transformación de la con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discernimiento entre lo cultural, susceptible de 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laboración conjunta del conocimiento(docente-alum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Busca  el cambi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Rectángulo"/>
          <p:cNvSpPr/>
          <p:nvPr/>
        </p:nvSpPr>
        <p:spPr>
          <a:xfrm>
            <a:off x="2786040" y="5500800"/>
            <a:ext cx="4929120" cy="135720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como praxis emancip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or tanto  es   político (quienes lo controlan tienen  poder de asegurarse que se acepten sus significados como dignos de ser transmi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cr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 la autorreflexión crítica y permite desnaturalizar niveles más profundos que la acción práctica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Nube"/>
          <p:cNvSpPr/>
          <p:nvPr/>
        </p:nvSpPr>
        <p:spPr>
          <a:xfrm>
            <a:off x="1000080" y="642960"/>
            <a:ext cx="278604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EMANCIP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0" name="12 Conector recto de flecha"/>
          <p:cNvCxnSpPr/>
          <p:nvPr/>
        </p:nvCxnSpPr>
        <p:spPr>
          <a:xfrm flipV="1">
            <a:off x="4857840" y="2428200"/>
            <a:ext cx="357840" cy="857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4" name="15 Conector recto de flecha"/>
          <p:cNvCxnSpPr/>
          <p:nvPr/>
        </p:nvCxnSpPr>
        <p:spPr>
          <a:xfrm>
            <a:off x="2856600" y="2071800"/>
            <a:ext cx="857880" cy="1357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3 Conector recto de flecha"/>
          <p:cNvCxnSpPr/>
          <p:nvPr/>
        </p:nvCxnSpPr>
        <p:spPr>
          <a:xfrm flipH="1" flipV="1">
            <a:off x="2357280" y="3928680"/>
            <a:ext cx="6433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2:42:30Z</dcterms:created>
  <dc:creator>Luis</dc:creator>
  <dc:description/>
  <dc:language>en-US</dc:language>
  <cp:lastModifiedBy>Luis</cp:lastModifiedBy>
  <dcterms:modified xsi:type="dcterms:W3CDTF">2018-03-18T14:25:44Z</dcterms:modified>
  <cp:revision>21</cp:revision>
  <dc:subject/>
  <dc:title>BASE EPISTÉMICA        DEL  CURRÍCULO</dc:title>
</cp:coreProperties>
</file>