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F56-E02F-4E0D-91D2-03D82379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2DB-0054-4D8A-AF1F-6A9594B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FC4-C4D0-4314-BC40-503C226D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4C4-8307-453A-9DD3-2E27DAEC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9406E-672B-48E8-B379-43F1ADA9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F9C2C-32EC-4215-8B6B-66FB9D15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0FAB-AB86-4C26-8082-9594FED9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2596-39C7-465A-BE5B-B704511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D051-DDC9-4DCD-96B2-DC7772B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6778-75EA-4EBB-9723-23616B3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2BB5-D886-44D1-A7F9-456B5EC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6AE-91BC-4E31-AA04-8E883FC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96A2C-DD5E-46B4-8919-12635C6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10483-53A5-4D52-8E7D-7F80BBA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7BB6F-E5E4-491B-8AEC-090BCC56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E4D1-30A7-4891-956D-098DA4B7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0926F-90AB-45CC-860B-800B4464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A727-C518-48C9-B440-764432F4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118C-9000-4BB0-9686-E9A4B55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683A-A334-43BF-B2D9-B4E81B1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C1CC-19E3-45AB-9299-8E697AF0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730D-8F2E-4ED4-8041-135BFDD2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CB9-F0CD-4DA5-8B5B-EDC28350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45B0-DBCD-4DFE-8E98-0CF211DE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CC5B-D6E9-407E-8DF8-09CA5AB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31E8-CC0F-4900-9460-4069A61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305E-BB84-4960-86C9-9785B38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9042-E4DB-476A-91A6-E4CF947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8CA5-42FF-4368-A230-E13C60B4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6FF9-4F4E-4C29-BF89-E87FED1A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1AA8F-7E9D-45A3-83F3-F9107146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028DD-FC5F-4870-BB33-D312641D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5A2B1-7597-4667-B684-EB9D2CC8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AAD-51C1-4A21-96C1-34E8D3BE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BC877-8D37-4D92-AB69-1F25675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A8D6E-1CA2-46C5-805F-5206739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2FCA9-35DE-46A5-AF4A-AADBCD2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DB9BD-9804-4C9D-87E8-A510740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3E19D-63E8-4360-A210-A08B6A5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49278-F061-47EE-8B0B-F5AB859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5ED04-7531-4F01-823C-28B858F6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6858A-4F2B-4705-99A5-8F40930E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B8236-5160-4DEE-A042-53A2E49F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D81-374E-4289-B34D-C380B789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6A3-D3B6-4487-AE8B-D9EC91F8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6A0-A767-4DC8-B4FD-19E962E2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8B5-A013-4B3D-93E5-0414528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1E2-481D-4222-8B81-277F9A0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938-0779-42E3-91C8-C6B8930EE70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FBD-994C-48A9-8927-F3497A420E99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D88-9EED-42B5-9F21-239E6FA6618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6A67-555E-45C9-AC95-D259C81356E1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000"/>
            </a:br>
            <a:r>
              <a:rPr b="0" lang="es-ES" sz="20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 el porcentaje + alto sobre el más ba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 Los porcentajes intermedios son “comodine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marco teór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50 % VOTARON POR PAC , 10 % POR EL FA,  25 % VOTARON POR EL ML Y 5 % NULOS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21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L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TEG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TRIANGU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17 Elipse"/>
          <p:cNvSpPr/>
          <p:nvPr/>
        </p:nvSpPr>
        <p:spPr>
          <a:xfrm>
            <a:off x="2928960" y="3571920"/>
            <a:ext cx="214308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ISTEMA MAN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0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2" name="34 Elipse"/>
          <p:cNvSpPr/>
          <p:nvPr/>
        </p:nvSpPr>
        <p:spPr>
          <a:xfrm>
            <a:off x="4286160" y="1857240"/>
            <a:ext cx="214308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U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O ETNOG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50 Conector recto"/>
          <p:cNvSpPr/>
          <p:nvPr/>
        </p:nvSpPr>
        <p:spPr>
          <a:xfrm>
            <a:off x="8357400" y="5357880"/>
            <a:ext cx="71640" cy="10713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2 Título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6460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285840" y="2071800"/>
          <a:ext cx="8501040" cy="3382920"/>
        </p:xfrm>
        <a:graphic>
          <a:graphicData uri="http://schemas.openxmlformats.org/drawingml/2006/table">
            <a:tbl>
              <a:tblPr/>
              <a:tblGrid>
                <a:gridCol w="1576440"/>
                <a:gridCol w="1577880"/>
                <a:gridCol w="1835280"/>
                <a:gridCol w="1319040"/>
                <a:gridCol w="2192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tegorí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 análi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ágina oficial UN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ocumento  de  la carrer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orí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nde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Tipo de ser hum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Tipo de práctica educativ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Tipo de socie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n TENDENCIAS DE CATEGORIA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 referente  teór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3. se elabora un texto “tejido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onstantia"/>
              </a:rPr>
              <a:t>¿Y AHORA QUE NOS TOCA HACER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1.Planifiquemos (diseñemos)  el diagnóstico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Realicemos el taller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2.Hagamos la investigació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diagnóstic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scribamos el informe final del diagnóstico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ver lista adjunta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xploremos las competencias en los exploradores académic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2 Título" descr=""/>
          <p:cNvPicPr/>
          <p:nvPr/>
        </p:nvPicPr>
        <p:blipFill>
          <a:blip r:embed="rId1"/>
          <a:stretch/>
        </p:blipFill>
        <p:spPr>
          <a:xfrm>
            <a:off x="353880" y="146160"/>
            <a:ext cx="8339400" cy="1231920"/>
          </a:xfrm>
          <a:prstGeom prst="rect">
            <a:avLst/>
          </a:prstGeom>
          <a:ln w="0">
            <a:noFill/>
          </a:ln>
        </p:spPr>
      </p:pic>
      <p:sp>
        <p:nvSpPr>
          <p:cNvPr id="250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iagnóstico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5 Elipse"/>
          <p:cNvSpPr/>
          <p:nvPr/>
        </p:nvSpPr>
        <p:spPr>
          <a:xfrm>
            <a:off x="2928960" y="4857840"/>
            <a:ext cx="2357280" cy="11430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COMPETENCIA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Perfi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8 Estrella de 5 puntas"/>
          <p:cNvSpPr/>
          <p:nvPr/>
        </p:nvSpPr>
        <p:spPr>
          <a:xfrm>
            <a:off x="214200" y="3214800"/>
            <a:ext cx="3571920" cy="20001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Te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ndencias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de la discipl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12 Conector recto"/>
          <p:cNvSpPr/>
          <p:nvPr/>
        </p:nvSpPr>
        <p:spPr>
          <a:xfrm flipH="1">
            <a:off x="1999800" y="4786200"/>
            <a:ext cx="1800" cy="785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14 Conector recto de flecha"/>
          <p:cNvCxnSpPr>
            <a:endCxn id="252" idx="2"/>
          </p:cNvCxnSpPr>
          <p:nvPr/>
        </p:nvCxnSpPr>
        <p:spPr>
          <a:xfrm>
            <a:off x="2000160" y="5428800"/>
            <a:ext cx="92952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19 Conector recto de flecha"/>
          <p:cNvCxnSpPr>
            <a:stCxn id="252" idx="6"/>
          </p:cNvCxnSpPr>
          <p:nvPr/>
        </p:nvCxnSpPr>
        <p:spPr>
          <a:xfrm>
            <a:off x="5285880" y="5428800"/>
            <a:ext cx="50076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22 Rectángulo redondeado"/>
          <p:cNvSpPr/>
          <p:nvPr/>
        </p:nvSpPr>
        <p:spPr>
          <a:xfrm>
            <a:off x="5786280" y="485784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Organización y gest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23 Rectángulo redondeado"/>
          <p:cNvSpPr/>
          <p:nvPr/>
        </p:nvSpPr>
        <p:spPr>
          <a:xfrm>
            <a:off x="642960" y="6143760"/>
            <a:ext cx="8501040" cy="3571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EVALUACIÓ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25 Conector recto de flecha"/>
          <p:cNvCxnSpPr>
            <a:stCxn id="252" idx="0"/>
            <a:endCxn id="254" idx="1"/>
          </p:cNvCxnSpPr>
          <p:nvPr/>
        </p:nvCxnSpPr>
        <p:spPr>
          <a:xfrm flipV="1">
            <a:off x="4105800" y="3928680"/>
            <a:ext cx="1323000" cy="9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32 Flecha arriba y abajo"/>
          <p:cNvSpPr/>
          <p:nvPr/>
        </p:nvSpPr>
        <p:spPr>
          <a:xfrm>
            <a:off x="6643800" y="5572080"/>
            <a:ext cx="500040" cy="64296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1 Título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8285400" cy="933480"/>
          </a:xfrm>
          <a:prstGeom prst="rect">
            <a:avLst/>
          </a:prstGeom>
          <a:ln w="0">
            <a:noFill/>
          </a:ln>
        </p:spPr>
      </p:pic>
      <p:sp>
        <p:nvSpPr>
          <p:cNvPr id="266" name="6 Rectángulo"/>
          <p:cNvSpPr/>
          <p:nvPr/>
        </p:nvSpPr>
        <p:spPr>
          <a:xfrm>
            <a:off x="1071720" y="2143080"/>
            <a:ext cx="1643040" cy="15001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714840" y="2143080"/>
            <a:ext cx="1714320" cy="1428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8 Rectángulo"/>
          <p:cNvSpPr/>
          <p:nvPr/>
        </p:nvSpPr>
        <p:spPr>
          <a:xfrm>
            <a:off x="5929200" y="2214720"/>
            <a:ext cx="2000520" cy="1214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9 Rectángulo"/>
          <p:cNvSpPr/>
          <p:nvPr/>
        </p:nvSpPr>
        <p:spPr>
          <a:xfrm>
            <a:off x="1214280" y="4286160"/>
            <a:ext cx="1928880" cy="1143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11 CuadroTexto"/>
          <p:cNvSpPr/>
          <p:nvPr/>
        </p:nvSpPr>
        <p:spPr>
          <a:xfrm>
            <a:off x="1143000" y="1928880"/>
            <a:ext cx="16430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1 .1. 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señar 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agnós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externo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2 CuadroTexto"/>
          <p:cNvSpPr/>
          <p:nvPr/>
        </p:nvSpPr>
        <p:spPr>
          <a:xfrm>
            <a:off x="3714840" y="1928880"/>
            <a:ext cx="185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2.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 Recolección de da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antitativos y cual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3 CuadroTexto"/>
          <p:cNvSpPr/>
          <p:nvPr/>
        </p:nvSpPr>
        <p:spPr>
          <a:xfrm>
            <a:off x="5929200" y="2214720"/>
            <a:ext cx="200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.3.Interpretación de los datos cualitativos y cuant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4 CuadroTexto"/>
          <p:cNvSpPr/>
          <p:nvPr/>
        </p:nvSpPr>
        <p:spPr>
          <a:xfrm>
            <a:off x="1143000" y="4357800"/>
            <a:ext cx="185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 .4. Elab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forme  final del diagnóst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5 Rectángulo"/>
          <p:cNvSpPr/>
          <p:nvPr/>
        </p:nvSpPr>
        <p:spPr>
          <a:xfrm>
            <a:off x="3571920" y="4429080"/>
            <a:ext cx="221436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6 Rectángulo"/>
          <p:cNvSpPr/>
          <p:nvPr/>
        </p:nvSpPr>
        <p:spPr>
          <a:xfrm>
            <a:off x="6072120" y="4429080"/>
            <a:ext cx="171468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6. Planificación de  la gest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7 CuadroTexto"/>
          <p:cNvSpPr/>
          <p:nvPr/>
        </p:nvSpPr>
        <p:spPr>
          <a:xfrm>
            <a:off x="3500280" y="4429080"/>
            <a:ext cx="22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5.   Realización de  la organizac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22 Conector recto de flecha"/>
          <p:cNvCxnSpPr/>
          <p:nvPr/>
        </p:nvCxnSpPr>
        <p:spPr>
          <a:xfrm>
            <a:off x="2714760" y="2571480"/>
            <a:ext cx="1072080" cy="43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26 Conector recto de flecha"/>
          <p:cNvCxnSpPr/>
          <p:nvPr/>
        </p:nvCxnSpPr>
        <p:spPr>
          <a:xfrm>
            <a:off x="5500440" y="278604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28 Conector recto de flecha"/>
          <p:cNvCxnSpPr/>
          <p:nvPr/>
        </p:nvCxnSpPr>
        <p:spPr>
          <a:xfrm flipH="1">
            <a:off x="2142720" y="3499200"/>
            <a:ext cx="4572720" cy="786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31 Conector recto de flecha"/>
          <p:cNvCxnSpPr/>
          <p:nvPr/>
        </p:nvCxnSpPr>
        <p:spPr>
          <a:xfrm>
            <a:off x="3071880" y="5214960"/>
            <a:ext cx="4291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42 Conector recto de flecha"/>
          <p:cNvCxnSpPr>
            <a:endCxn id="275" idx="1"/>
          </p:cNvCxnSpPr>
          <p:nvPr/>
        </p:nvCxnSpPr>
        <p:spPr>
          <a:xfrm flipV="1">
            <a:off x="5715000" y="4965480"/>
            <a:ext cx="35784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2" name="19 Marco"/>
          <p:cNvSpPr/>
          <p:nvPr/>
        </p:nvSpPr>
        <p:spPr>
          <a:xfrm>
            <a:off x="571680" y="3643200"/>
            <a:ext cx="45720" cy="242892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37 Marco"/>
          <p:cNvSpPr/>
          <p:nvPr/>
        </p:nvSpPr>
        <p:spPr>
          <a:xfrm>
            <a:off x="214200" y="1285920"/>
            <a:ext cx="8786880" cy="50007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38 CuadroTexto"/>
          <p:cNvSpPr/>
          <p:nvPr/>
        </p:nvSpPr>
        <p:spPr>
          <a:xfrm>
            <a:off x="3071880" y="571500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VALU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39 CuadroTexto"/>
          <p:cNvSpPr/>
          <p:nvPr/>
        </p:nvSpPr>
        <p:spPr>
          <a:xfrm>
            <a:off x="3286080" y="1500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Arial"/>
              </a:rPr>
              <a:t>EVALU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40 CuadroTexto"/>
          <p:cNvSpPr/>
          <p:nvPr/>
        </p:nvSpPr>
        <p:spPr>
          <a:xfrm>
            <a:off x="8501040" y="2428920"/>
            <a:ext cx="500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41 CuadroTexto"/>
          <p:cNvSpPr/>
          <p:nvPr/>
        </p:nvSpPr>
        <p:spPr>
          <a:xfrm flipH="1">
            <a:off x="285120" y="2071800"/>
            <a:ext cx="50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0004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3 Rectángulo"/>
          <p:cNvSpPr/>
          <p:nvPr/>
        </p:nvSpPr>
        <p:spPr>
          <a:xfrm>
            <a:off x="428760" y="3214800"/>
            <a:ext cx="2000160" cy="14284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TIP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A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4 Elipse"/>
          <p:cNvSpPr/>
          <p:nvPr/>
        </p:nvSpPr>
        <p:spPr>
          <a:xfrm>
            <a:off x="3214800" y="1643040"/>
            <a:ext cx="3857400" cy="20001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nt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 Elipse"/>
          <p:cNvSpPr/>
          <p:nvPr/>
        </p:nvSpPr>
        <p:spPr>
          <a:xfrm>
            <a:off x="3643200" y="4357800"/>
            <a:ext cx="3429000" cy="171432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l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7 Conector recto de flecha"/>
          <p:cNvCxnSpPr/>
          <p:nvPr/>
        </p:nvCxnSpPr>
        <p:spPr>
          <a:xfrm flipV="1">
            <a:off x="2500200" y="3142800"/>
            <a:ext cx="929520" cy="35784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cxnSp>
        <p:nvCxnSpPr>
          <p:cNvPr id="178" name="9 Conector recto de flecha"/>
          <p:cNvCxnSpPr/>
          <p:nvPr/>
        </p:nvCxnSpPr>
        <p:spPr>
          <a:xfrm>
            <a:off x="2428920" y="4428720"/>
            <a:ext cx="1357920" cy="5007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79" name="11 Rectángulo"/>
          <p:cNvSpPr/>
          <p:nvPr/>
        </p:nvSpPr>
        <p:spPr>
          <a:xfrm>
            <a:off x="7786800" y="2071800"/>
            <a:ext cx="1000080" cy="36432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12 Flecha izquierda"/>
          <p:cNvSpPr/>
          <p:nvPr/>
        </p:nvSpPr>
        <p:spPr>
          <a:xfrm>
            <a:off x="7143840" y="2286000"/>
            <a:ext cx="64296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13 Flecha izquierda"/>
          <p:cNvSpPr/>
          <p:nvPr/>
        </p:nvSpPr>
        <p:spPr>
          <a:xfrm>
            <a:off x="7072200" y="4857840"/>
            <a:ext cx="714600" cy="5713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NT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GRÁFICOS Y CUAD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17 Elipse"/>
          <p:cNvSpPr/>
          <p:nvPr/>
        </p:nvSpPr>
        <p:spPr>
          <a:xfrm>
            <a:off x="3214800" y="3571920"/>
            <a:ext cx="171432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18 Nube"/>
          <p:cNvSpPr/>
          <p:nvPr/>
        </p:nvSpPr>
        <p:spPr>
          <a:xfrm>
            <a:off x="642960" y="3929040"/>
            <a:ext cx="2571840" cy="1785960"/>
          </a:xfrm>
          <a:prstGeom prst="pie">
            <a:avLst/>
          </a:prstGeom>
          <a:solidFill>
            <a:srgbClr val="dfcf04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STAD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4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6" name="33 Flecha arriba"/>
          <p:cNvSpPr/>
          <p:nvPr/>
        </p:nvSpPr>
        <p:spPr>
          <a:xfrm>
            <a:off x="1785960" y="2928960"/>
            <a:ext cx="500040" cy="107172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34 Elipse"/>
          <p:cNvSpPr/>
          <p:nvPr/>
        </p:nvSpPr>
        <p:spPr>
          <a:xfrm>
            <a:off x="4714920" y="1857240"/>
            <a:ext cx="142884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P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50 Conector recto"/>
          <p:cNvSpPr/>
          <p:nvPr/>
        </p:nvSpPr>
        <p:spPr>
          <a:xfrm>
            <a:off x="8359920" y="5430960"/>
            <a:ext cx="69840" cy="99828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articipantes en carrera por gén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85920" y="2500200"/>
          <a:ext cx="6095880" cy="1952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ener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recu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centaj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je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05" name="4 Elipse"/>
          <p:cNvSpPr/>
          <p:nvPr/>
        </p:nvSpPr>
        <p:spPr>
          <a:xfrm>
            <a:off x="1357200" y="4714920"/>
            <a:ext cx="5072040" cy="16430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INTERPRE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(tendencia de datos + teor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5 Flecha izquierda y arriba"/>
          <p:cNvSpPr/>
          <p:nvPr/>
        </p:nvSpPr>
        <p:spPr>
          <a:xfrm>
            <a:off x="6357960" y="4500720"/>
            <a:ext cx="928800" cy="150012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2 Título" descr=""/>
          <p:cNvPicPr/>
          <p:nvPr/>
        </p:nvPicPr>
        <p:blipFill>
          <a:blip r:embed="rId2"/>
          <a:stretch/>
        </p:blipFill>
        <p:spPr>
          <a:xfrm>
            <a:off x="334800" y="146160"/>
            <a:ext cx="8358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0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4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COLUMN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LINE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BARR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12:47:16Z</dcterms:created>
  <dc:creator>Luis</dc:creator>
  <dc:description/>
  <dc:language>en-US</dc:language>
  <cp:lastModifiedBy>Luis</cp:lastModifiedBy>
  <dcterms:modified xsi:type="dcterms:W3CDTF">2018-03-19T15:43:25Z</dcterms:modified>
  <cp:revision>19</cp:revision>
  <dc:subject/>
  <dc:title>RUTA CRITICA DEL CURRÍCULO</dc:title>
</cp:coreProperties>
</file>